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89.xml.rels" ContentType="application/vnd.openxmlformats-package.relationships+xml"/>
  <Override PartName="/ppt/notesSlides/notesSlide89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  <p:sldId id="276" r:id="rId54"/>
    <p:sldId id="277" r:id="rId55"/>
    <p:sldId id="278" r:id="rId56"/>
    <p:sldId id="279" r:id="rId57"/>
    <p:sldId id="280" r:id="rId58"/>
    <p:sldId id="281" r:id="rId59"/>
    <p:sldId id="282" r:id="rId60"/>
    <p:sldId id="283" r:id="rId61"/>
    <p:sldId id="284" r:id="rId62"/>
    <p:sldId id="285" r:id="rId63"/>
    <p:sldId id="286" r:id="rId64"/>
    <p:sldId id="287" r:id="rId65"/>
    <p:sldId id="288" r:id="rId66"/>
    <p:sldId id="289" r:id="rId67"/>
    <p:sldId id="290" r:id="rId68"/>
    <p:sldId id="291" r:id="rId69"/>
    <p:sldId id="292" r:id="rId70"/>
    <p:sldId id="293" r:id="rId71"/>
    <p:sldId id="294" r:id="rId72"/>
    <p:sldId id="295" r:id="rId73"/>
    <p:sldId id="296" r:id="rId74"/>
    <p:sldId id="297" r:id="rId75"/>
    <p:sldId id="298" r:id="rId76"/>
    <p:sldId id="299" r:id="rId77"/>
    <p:sldId id="300" r:id="rId78"/>
    <p:sldId id="301" r:id="rId79"/>
    <p:sldId id="302" r:id="rId80"/>
    <p:sldId id="303" r:id="rId81"/>
    <p:sldId id="304" r:id="rId82"/>
    <p:sldId id="305" r:id="rId83"/>
    <p:sldId id="306" r:id="rId84"/>
    <p:sldId id="307" r:id="rId85"/>
    <p:sldId id="308" r:id="rId86"/>
    <p:sldId id="309" r:id="rId87"/>
    <p:sldId id="310" r:id="rId88"/>
    <p:sldId id="311" r:id="rId89"/>
    <p:sldId id="312" r:id="rId90"/>
    <p:sldId id="313" r:id="rId91"/>
    <p:sldId id="314" r:id="rId92"/>
    <p:sldId id="315" r:id="rId93"/>
    <p:sldId id="316" r:id="rId94"/>
    <p:sldId id="317" r:id="rId95"/>
    <p:sldId id="318" r:id="rId96"/>
    <p:sldId id="319" r:id="rId97"/>
    <p:sldId id="320" r:id="rId98"/>
    <p:sldId id="321" r:id="rId99"/>
    <p:sldId id="322" r:id="rId100"/>
    <p:sldId id="323" r:id="rId101"/>
    <p:sldId id="324" r:id="rId102"/>
    <p:sldId id="325" r:id="rId103"/>
    <p:sldId id="326" r:id="rId104"/>
    <p:sldId id="327" r:id="rId105"/>
    <p:sldId id="328" r:id="rId106"/>
    <p:sldId id="329" r:id="rId107"/>
    <p:sldId id="330" r:id="rId108"/>
    <p:sldId id="331" r:id="rId109"/>
    <p:sldId id="332" r:id="rId110"/>
    <p:sldId id="333" r:id="rId111"/>
    <p:sldId id="334" r:id="rId112"/>
    <p:sldId id="335" r:id="rId113"/>
    <p:sldId id="336" r:id="rId114"/>
    <p:sldId id="337" r:id="rId115"/>
    <p:sldId id="338" r:id="rId116"/>
    <p:sldId id="339" r:id="rId117"/>
    <p:sldId id="340" r:id="rId118"/>
    <p:sldId id="341" r:id="rId119"/>
    <p:sldId id="342" r:id="rId120"/>
    <p:sldId id="343" r:id="rId121"/>
    <p:sldId id="344" r:id="rId122"/>
    <p:sldId id="345" r:id="rId123"/>
    <p:sldId id="346" r:id="rId124"/>
    <p:sldId id="347" r:id="rId1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slide" Target="slides/slide21.xml"/><Relationship Id="rId55" Type="http://schemas.openxmlformats.org/officeDocument/2006/relationships/slide" Target="slides/slide22.xml"/><Relationship Id="rId56" Type="http://schemas.openxmlformats.org/officeDocument/2006/relationships/slide" Target="slides/slide23.xml"/><Relationship Id="rId57" Type="http://schemas.openxmlformats.org/officeDocument/2006/relationships/slide" Target="slides/slide24.xml"/><Relationship Id="rId58" Type="http://schemas.openxmlformats.org/officeDocument/2006/relationships/slide" Target="slides/slide25.xml"/><Relationship Id="rId59" Type="http://schemas.openxmlformats.org/officeDocument/2006/relationships/slide" Target="slides/slide26.xml"/><Relationship Id="rId60" Type="http://schemas.openxmlformats.org/officeDocument/2006/relationships/slide" Target="slides/slide27.xml"/><Relationship Id="rId61" Type="http://schemas.openxmlformats.org/officeDocument/2006/relationships/slide" Target="slides/slide28.xml"/><Relationship Id="rId62" Type="http://schemas.openxmlformats.org/officeDocument/2006/relationships/slide" Target="slides/slide29.xml"/><Relationship Id="rId63" Type="http://schemas.openxmlformats.org/officeDocument/2006/relationships/slide" Target="slides/slide30.xml"/><Relationship Id="rId64" Type="http://schemas.openxmlformats.org/officeDocument/2006/relationships/slide" Target="slides/slide31.xml"/><Relationship Id="rId65" Type="http://schemas.openxmlformats.org/officeDocument/2006/relationships/slide" Target="slides/slide32.xml"/><Relationship Id="rId66" Type="http://schemas.openxmlformats.org/officeDocument/2006/relationships/slide" Target="slides/slide33.xml"/><Relationship Id="rId67" Type="http://schemas.openxmlformats.org/officeDocument/2006/relationships/slide" Target="slides/slide34.xml"/><Relationship Id="rId68" Type="http://schemas.openxmlformats.org/officeDocument/2006/relationships/slide" Target="slides/slide35.xml"/><Relationship Id="rId69" Type="http://schemas.openxmlformats.org/officeDocument/2006/relationships/slide" Target="slides/slide36.xml"/><Relationship Id="rId70" Type="http://schemas.openxmlformats.org/officeDocument/2006/relationships/slide" Target="slides/slide37.xml"/><Relationship Id="rId71" Type="http://schemas.openxmlformats.org/officeDocument/2006/relationships/slide" Target="slides/slide38.xml"/><Relationship Id="rId72" Type="http://schemas.openxmlformats.org/officeDocument/2006/relationships/slide" Target="slides/slide39.xml"/><Relationship Id="rId73" Type="http://schemas.openxmlformats.org/officeDocument/2006/relationships/slide" Target="slides/slide40.xml"/><Relationship Id="rId74" Type="http://schemas.openxmlformats.org/officeDocument/2006/relationships/slide" Target="slides/slide41.xml"/><Relationship Id="rId75" Type="http://schemas.openxmlformats.org/officeDocument/2006/relationships/slide" Target="slides/slide42.xml"/><Relationship Id="rId76" Type="http://schemas.openxmlformats.org/officeDocument/2006/relationships/slide" Target="slides/slide43.xml"/><Relationship Id="rId77" Type="http://schemas.openxmlformats.org/officeDocument/2006/relationships/slide" Target="slides/slide44.xml"/><Relationship Id="rId78" Type="http://schemas.openxmlformats.org/officeDocument/2006/relationships/slide" Target="slides/slide45.xml"/><Relationship Id="rId79" Type="http://schemas.openxmlformats.org/officeDocument/2006/relationships/slide" Target="slides/slide46.xml"/><Relationship Id="rId80" Type="http://schemas.openxmlformats.org/officeDocument/2006/relationships/slide" Target="slides/slide47.xml"/><Relationship Id="rId81" Type="http://schemas.openxmlformats.org/officeDocument/2006/relationships/slide" Target="slides/slide48.xml"/><Relationship Id="rId82" Type="http://schemas.openxmlformats.org/officeDocument/2006/relationships/slide" Target="slides/slide49.xml"/><Relationship Id="rId83" Type="http://schemas.openxmlformats.org/officeDocument/2006/relationships/slide" Target="slides/slide50.xml"/><Relationship Id="rId84" Type="http://schemas.openxmlformats.org/officeDocument/2006/relationships/slide" Target="slides/slide51.xml"/><Relationship Id="rId85" Type="http://schemas.openxmlformats.org/officeDocument/2006/relationships/slide" Target="slides/slide52.xml"/><Relationship Id="rId86" Type="http://schemas.openxmlformats.org/officeDocument/2006/relationships/slide" Target="slides/slide53.xml"/><Relationship Id="rId87" Type="http://schemas.openxmlformats.org/officeDocument/2006/relationships/slide" Target="slides/slide54.xml"/><Relationship Id="rId88" Type="http://schemas.openxmlformats.org/officeDocument/2006/relationships/slide" Target="slides/slide55.xml"/><Relationship Id="rId89" Type="http://schemas.openxmlformats.org/officeDocument/2006/relationships/slide" Target="slides/slide56.xml"/><Relationship Id="rId90" Type="http://schemas.openxmlformats.org/officeDocument/2006/relationships/slide" Target="slides/slide57.xml"/><Relationship Id="rId91" Type="http://schemas.openxmlformats.org/officeDocument/2006/relationships/slide" Target="slides/slide58.xml"/><Relationship Id="rId92" Type="http://schemas.openxmlformats.org/officeDocument/2006/relationships/slide" Target="slides/slide59.xml"/><Relationship Id="rId93" Type="http://schemas.openxmlformats.org/officeDocument/2006/relationships/slide" Target="slides/slide60.xml"/><Relationship Id="rId94" Type="http://schemas.openxmlformats.org/officeDocument/2006/relationships/slide" Target="slides/slide61.xml"/><Relationship Id="rId95" Type="http://schemas.openxmlformats.org/officeDocument/2006/relationships/slide" Target="slides/slide62.xml"/><Relationship Id="rId96" Type="http://schemas.openxmlformats.org/officeDocument/2006/relationships/slide" Target="slides/slide63.xml"/><Relationship Id="rId97" Type="http://schemas.openxmlformats.org/officeDocument/2006/relationships/slide" Target="slides/slide64.xml"/><Relationship Id="rId98" Type="http://schemas.openxmlformats.org/officeDocument/2006/relationships/slide" Target="slides/slide65.xml"/><Relationship Id="rId99" Type="http://schemas.openxmlformats.org/officeDocument/2006/relationships/slide" Target="slides/slide66.xml"/><Relationship Id="rId100" Type="http://schemas.openxmlformats.org/officeDocument/2006/relationships/slide" Target="slides/slide67.xml"/><Relationship Id="rId101" Type="http://schemas.openxmlformats.org/officeDocument/2006/relationships/slide" Target="slides/slide68.xml"/><Relationship Id="rId102" Type="http://schemas.openxmlformats.org/officeDocument/2006/relationships/slide" Target="slides/slide69.xml"/><Relationship Id="rId103" Type="http://schemas.openxmlformats.org/officeDocument/2006/relationships/slide" Target="slides/slide70.xml"/><Relationship Id="rId104" Type="http://schemas.openxmlformats.org/officeDocument/2006/relationships/slide" Target="slides/slide71.xml"/><Relationship Id="rId105" Type="http://schemas.openxmlformats.org/officeDocument/2006/relationships/slide" Target="slides/slide72.xml"/><Relationship Id="rId106" Type="http://schemas.openxmlformats.org/officeDocument/2006/relationships/slide" Target="slides/slide73.xml"/><Relationship Id="rId107" Type="http://schemas.openxmlformats.org/officeDocument/2006/relationships/slide" Target="slides/slide74.xml"/><Relationship Id="rId108" Type="http://schemas.openxmlformats.org/officeDocument/2006/relationships/slide" Target="slides/slide75.xml"/><Relationship Id="rId109" Type="http://schemas.openxmlformats.org/officeDocument/2006/relationships/slide" Target="slides/slide76.xml"/><Relationship Id="rId110" Type="http://schemas.openxmlformats.org/officeDocument/2006/relationships/slide" Target="slides/slide77.xml"/><Relationship Id="rId111" Type="http://schemas.openxmlformats.org/officeDocument/2006/relationships/slide" Target="slides/slide78.xml"/><Relationship Id="rId112" Type="http://schemas.openxmlformats.org/officeDocument/2006/relationships/slide" Target="slides/slide79.xml"/><Relationship Id="rId113" Type="http://schemas.openxmlformats.org/officeDocument/2006/relationships/slide" Target="slides/slide80.xml"/><Relationship Id="rId114" Type="http://schemas.openxmlformats.org/officeDocument/2006/relationships/slide" Target="slides/slide81.xml"/><Relationship Id="rId115" Type="http://schemas.openxmlformats.org/officeDocument/2006/relationships/slide" Target="slides/slide82.xml"/><Relationship Id="rId116" Type="http://schemas.openxmlformats.org/officeDocument/2006/relationships/slide" Target="slides/slide83.xml"/><Relationship Id="rId117" Type="http://schemas.openxmlformats.org/officeDocument/2006/relationships/slide" Target="slides/slide84.xml"/><Relationship Id="rId118" Type="http://schemas.openxmlformats.org/officeDocument/2006/relationships/slide" Target="slides/slide85.xml"/><Relationship Id="rId119" Type="http://schemas.openxmlformats.org/officeDocument/2006/relationships/slide" Target="slides/slide86.xml"/><Relationship Id="rId120" Type="http://schemas.openxmlformats.org/officeDocument/2006/relationships/slide" Target="slides/slide87.xml"/><Relationship Id="rId121" Type="http://schemas.openxmlformats.org/officeDocument/2006/relationships/slide" Target="slides/slide88.xml"/><Relationship Id="rId122" Type="http://schemas.openxmlformats.org/officeDocument/2006/relationships/slide" Target="slides/slide89.xml"/><Relationship Id="rId123" Type="http://schemas.openxmlformats.org/officeDocument/2006/relationships/slide" Target="slides/slide90.xml"/><Relationship Id="rId124" Type="http://schemas.openxmlformats.org/officeDocument/2006/relationships/slide" Target="slides/slide91.xml"/><Relationship Id="rId125" Type="http://schemas.openxmlformats.org/officeDocument/2006/relationships/slide" Target="slides/slide92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 type="dt" idx="9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 type="ftr" idx="9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6"/>
          <p:cNvSpPr>
            <a:spLocks noGrp="1"/>
          </p:cNvSpPr>
          <p:nvPr>
            <p:ph type="sldNum" idx="9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6939-90EE-45B0-A42E-41583368F769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A90D-C903-45CC-A080-C43A7B1DE499}" type="slidenum">
              <a:rPr b="1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F0C3-0181-4608-BB92-6707BD077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4753-2159-4AF9-A32E-0130FC96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4D78F-6156-4547-8770-C379AA28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69703-80F7-4A25-8A90-31C23F24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12919-661F-461F-B8E5-D33CC59E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E0570-DB3D-4F93-B042-2178AE9B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27359-7D08-48FF-9BCF-21555FB6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4C396-63EF-48C9-8EDC-5726934E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D24E5-277A-4AA2-B817-157AF9DF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D1D96-95C9-4FC7-8103-7B5127F2F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A591D-9C45-4DB5-9A0F-4420A2B8E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966C5-A962-45C9-A4A5-C01BA9FB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6EA5-A905-45B9-83C0-034565F1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9F91F-0270-4372-9FE3-B8D4C89E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24082-B741-459F-8B1B-84FDA100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F121C-1C2E-4E0F-8DA2-BDB17799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54DE9-1051-46E7-B455-22C2818E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C075A-5F20-40C9-948C-0694D864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AA001-9988-4B39-9EE4-7FC24858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F94F6-2A64-4D5D-B563-011E2A88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76A6B-018F-4F97-B96A-1DFC711B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286DB-E031-4010-A8E3-D5AFF9DF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E3D57-6480-48D9-ABD7-58C66C260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676E-2456-4641-A61A-AD13A87D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ACC04-2702-41A8-9EB7-7FF229FC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C1C3A-4B64-43B3-9A0B-6E72E616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DA675-8262-45AF-99D0-881DF5D0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BB995F-E8F8-41A0-B7F7-A33FE18B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251BE-33D6-494B-8693-132F2E8F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688BF-9F3B-4202-8B4B-09062EA5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4C08E-85E2-4396-988E-C28B2FF0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C7F65-A4EC-42AF-A1E0-CA207BCF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0B1A7-F433-4E25-8BF6-5B1C2C64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51CE7-EAAA-4B5E-ABFF-BAC8947D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2E7F-4BA9-4606-974D-1F64ED58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9D54B-324B-4E3B-8D35-45064943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7AA063-4F52-4738-A14C-68F5185E5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7974A-7661-4E53-8629-CA533829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3F3C7-F190-489A-8319-E6D0D491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7851C-1F97-4571-BC96-3D9D4675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4A69E-44A0-47F7-96DB-651C2096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2FE09-5613-45CF-B5D0-465D5B67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C43F4-F86D-4288-BADB-FF16E7D6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66C63-D540-46B4-8EFC-24C941C5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F7F4D-8D89-4FF7-A5DD-23DE64A2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5D80-7C81-4615-B04D-CF6E8463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8308F-D617-4DCD-AA01-E28F107D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21768-DB47-42E6-AA12-97568396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B5861-1BEF-47A6-BD55-FFA5E153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2A931-9DF6-4456-8D2F-07EA3E7F2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D2AA0-DBA3-44D7-99F5-CE3D55AC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738CD-09B9-4C04-A1D8-4B63F447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B5697C-EE73-470C-A297-5172C419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57FDCC-7ACF-478F-BA21-0840CDE6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2825E0-A095-4C36-9928-9221DA51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83F655-C21A-4630-AF3D-65407F02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8518-FF21-40C8-AC63-6A5C1E42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E30C59-1A6D-4C30-BCFC-DDB12A38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B9EB44-0B42-41CA-972F-943047A8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E86A1-0F2F-4EC0-AE77-1F86FF1D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A1800-C396-4125-B0C9-B2960E1A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2BAC07-D208-41DD-952E-E0E6C41F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617E2E-2B60-42C6-9852-5C4FE284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08671E-6E77-4A52-9EED-FADE0B4B1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96F895-F107-4A91-80E7-F2F93682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824FEF-3CD6-43A8-9D22-606FB791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480FC6-9EAD-4014-BEF3-3C5C897C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0C06-E118-4726-8D9A-20095CE5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A9C5D9-6DCB-4818-8DD5-B3A19F0E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D38FD3-449E-4638-9E68-FB7543F8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C70CB9-6F84-439B-AF7C-7206217E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BBF0A1-AF91-407D-9C8B-2234E872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2F2568-6F6C-4A98-BD15-E765EA20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7468E1-D0A7-407A-9F54-094C5DEB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FAE240-FF2A-440C-B706-CD71D90E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DB6D43-969C-427B-A117-B3833C6B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6DBA77-9D09-44FE-BE69-2F8D504DB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4462C6-35E6-4944-9C5C-37C9EA8C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9364-ABBA-4FBB-A0DF-E7E6CA49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3EE439-C4FF-4886-B1AD-D51FE671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BD6C9D-4C87-46AA-AF12-3E13793A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014AA4-7821-4FA7-B184-D3EE6916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874DC0-370B-4C41-AFC5-0A48CB33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2AA3DB-FDAD-4302-B857-90A6AD33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D29FE5-0AAE-4530-898F-4447E377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045FEF-03C6-465D-819A-FBDBA628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C14F21-45C3-43FA-B20F-0548C73B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EBBA4E-1225-48C3-BA6B-0EFF5FA9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390761-959A-4F39-B32A-977E22BB5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ED87-1143-4D8E-8011-E4BA59B4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A9DA95-6A39-4E90-BEBE-95061DF91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31D86F-5C39-4B3D-BA6D-EF2BC966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384D56-18C1-4643-B82D-03152164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6844AA-E363-47BA-9242-81D51D08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525EC1-E446-43B7-98D4-6B02A7B5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97CCB2-E3C9-4DE6-B755-CDA41FC5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0437B3-4181-40D1-B695-F0BBBCA8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308FB0-572D-4C90-BCE2-89DE1149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8A912F-1556-4743-BB4B-2144B912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F6EA33-05DA-42E0-A1B1-91399B65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28C3-4EBE-4F33-B14C-2A879B33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58E268-8872-4C51-BC57-DC7A8346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A70B5B-AC52-4B2D-A205-8F6DA4BF7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437496-08E0-4686-960B-85F4CEB9C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D716BF-3D9D-45E6-9F9C-0FAF7A5E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4738DC-7B60-445B-BF91-36821169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21A860-E4BF-4812-826E-57B6CCB1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D61F7F-3160-4EBB-AB28-28F1CA9E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EFA2A2-EE49-466D-BD30-8373AC3B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21F8F2-6411-4A57-BDEF-E34E155C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1E1C51-AEDE-4641-8A59-400E8CB4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35DC-13E4-4DA5-9B62-6B6B6DDA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B0A6-9D60-4D6D-8E82-193CEFE3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A6412B-5868-42EA-920A-9451C082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75E173-731B-4F7E-BCE8-B3425259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910354-F665-4F72-A0D6-D7593974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9B4BAE-35F5-4E6D-AB8F-9D88DF4E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831189-C92F-4724-862C-D7C135D66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57409C-AA71-482F-B378-789F4FDE0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4661FF-0C47-444C-8CA6-A0FC4468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7C5043-36E2-415B-BBC5-FEB2C0B7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F72BCA-BF46-4C54-A3E5-2A1B69DB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66312E-F2CE-4E6A-A3C7-56771961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EC42-40C1-4078-8814-47346576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E1759D-0A88-470F-BD18-94091901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D2ADEB-D1A0-4FAA-9B2A-48346D37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ABE128-7E54-461F-B8D0-DE88FBB9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495FB7-2276-4D4E-8531-B9957608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C93768-3450-4E7D-9D80-5C81EEDC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309621-3BF9-4428-858A-D1649488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9F1384-18C3-41EE-BA8D-6C3E7110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9F54BE-773B-4805-9F1A-BDFEB966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F170CF-8767-4474-BD8C-495ECFFB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70F186-8B3B-481C-B944-DA898DF3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DF91-ECD6-43A8-8A25-0CC49BC0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1EF927-1F11-42C4-8E21-5E7CFEBD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9AF220-60D5-434B-8F3D-F93797EC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636E73-8E7A-4F12-B9A5-4C9B07A1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8B840B-35EF-4C46-B661-BA03C648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E60C19-F64D-4EBA-A56B-99B6D59B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41BA8E-A48B-4546-81E5-19C67CE1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E9A1AB-93FB-4990-ABFC-06DD8344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AB6DD7-8F1B-4304-8925-4960F275C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A2A6A5-6331-467A-A185-8994B53B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E996ED-B43B-42E8-81B5-F6F9FE8D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D420-EE92-48D6-8EC0-9C5B46986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240F89-5D70-4AD3-A622-A4D54C1A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DF32C3-84F0-455F-A279-702CF14A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CFD8D7-5221-4519-8139-D9B7E0AF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1EA03E-3CD2-4152-98E0-3FD873E4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83A6A9-CA7F-43A5-BB67-B780DCEC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FCD188-1A0C-4219-8A56-EFFA6FF0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2D9946-10D8-4F71-9B6D-E169C560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A184E7-1C72-42DD-A278-9B9BD40D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6A1F83-D22B-4EF4-BF4E-EAE16802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BD7789-FFEE-4B71-85CC-B9A49BAC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6856-70EA-487C-8F36-317F6853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84A4F6-4F86-4AE2-B813-3A5104A6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AE537B-252F-4804-8AD5-7B189602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3119D9-FA6D-495B-B220-17AEBA76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ED0D9C-AA40-4C83-AE2B-D3E904B3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EEEDF7-B3DB-44ED-8A0F-21B23C55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6B3615-05D2-4ED2-970F-68B5E64F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27F04B-1A3A-4D55-BBF7-E389780D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91BC2A-D82C-422F-B993-4271DF60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5451D2-A7B7-4566-9A54-CD1CBD49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177A1A-0C99-48B9-8CAB-C3F4D78D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8E970-9FE7-4FEB-978B-EA77ADC78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7B8209-6CD0-404D-BBD3-DCF37FDB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630B69-5286-433A-8C59-9B51922B4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EB6585-68B6-456A-B05B-AEB63C372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0089F4-0187-4D79-885F-607F2969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44FDC8-4E9F-4352-91F6-BFF666AE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048859-DEAC-4848-9BD1-01B7DE3B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B449FF-7BBD-44D4-A254-6007BFFE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8E87D3-3A58-4B97-ACFA-C57829D8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65B06B-E150-46BD-8154-84B83D94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2AC944-BA61-4FD4-A8F6-1B96378C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71F2B-8F16-4EC6-B05F-8BBF41A2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3C2E0F-EAE4-43C5-8EB7-0522683E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8DE4D6-4FB6-4C0F-9F1E-B5D2D3CC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43C028-3F4E-4B2E-8602-8EA9EFD6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0649A4-62C8-4AD0-AEB4-C94C9D1F6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D5D771-2086-4287-BCEB-0D96119D9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5EB39B-80BB-43AE-91DF-8E9A2AD3D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A123DC-6A62-4FCA-A775-661D6742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AAD0C6-D60B-4D27-B2C1-9842614E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0A8CD2-38E3-4F5B-A4D9-E998B241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AE9639-BF2F-4674-8EFC-E4C8D5B6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2B724-A79A-4B9B-A5C2-ACA5DCAA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08BF33-4052-42E2-8C82-F2EF42C4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128AD7-0D93-42FD-9C26-705E0FE0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9399F1-64BF-4D40-90DD-E6E5EBB5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C2D5A3-9434-43B9-9AB1-7FF465A0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610EA8-B9F8-4A2B-9318-2515B3DE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DBFA8F-2F2A-4928-96E1-0039C005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7F23E8-0686-4FDA-9E86-3F647C41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07B62C-1462-443B-9E42-6495CFA0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ADCEF2-A798-4277-8E69-623491E2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148BCE-FAE5-47C9-A902-9E890B73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3ED91-2674-47EA-AA2B-2D152FCC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2373A9-4D47-4BB8-884D-C6B0BDD0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FF5F74-8C19-4B75-A42E-9AADBBFF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3307D0-A7BC-492C-B150-81853D7B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1F9039-0072-48A2-AF3B-A0B06C4E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523A5B-4520-4439-B9BC-1E8B090D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10A87C-8EF2-4792-9A6C-9E7F3545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709466-31F7-4AE0-BA8D-F520189B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16BB3D-DAA4-4C45-A236-0FB70B98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1A8B45-3F30-447F-9F1F-0F10F6156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A1E938-59E1-49D5-90EF-B00A7449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27000-CB6E-4389-9941-0F2BF599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C584D1-FF82-4E42-BADF-E4BEA2D9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882009-D0BE-4B1D-A468-498BD10F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A55878-ED82-41ED-9ABC-BE9257B5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8276CF-11DE-4243-9E60-60C4E5B7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ED0F29-197A-4B5B-ADD1-31F61F3F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C526F4-938D-4EF7-90E6-BF423D4D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2E9686-67CC-402F-95E1-EFC24E2C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1FC337-9C41-4321-B89A-7D9D53A3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3D22CA-F2D1-491C-A164-C8731432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AA367C-A66D-46C1-9276-27071073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8008-1A87-476F-A4DF-B8173C07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448B9-891C-4D69-BA07-1B9CC3C6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456C7E-3955-4112-A9DD-639E93F1A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3076B3-2023-453B-978C-4217D728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096CA9-E14F-4E75-AEE9-CDC5B969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FEFEB5-079C-4E7A-8402-E3B02BF4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F608897-4B1B-454C-92CF-B7DE5E23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ACDEA0-BE0B-42CD-A435-2B1A35ED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150AC6-F4CB-4D7C-AD1B-7DED3A4F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04D322-720B-40D0-B2B8-05AD4C1F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98FAED-2852-46AD-BF92-13D7FAEA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D91D61-9395-4470-A1CE-6DD04D75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5C263-DB07-4D0C-A1FC-D6BA8866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7C2515-432C-462F-BB16-C62D2F99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A8DD1F-C294-4768-8DA1-E2659CE13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E5B28C-FDDC-441E-8750-6EE4E8F31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CDBD5D-377D-4833-8E5B-F1C78BAB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980BF2-AE84-4FC3-9E6D-87651ACB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3E343B-592D-4300-ADAD-DBF7827B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03BEC5-93E8-4C2E-B9DE-3422A3EA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4C07AB-E20D-482B-BC03-ED1B1FDB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C4EC25-4100-464C-A676-EA91571D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B26577-34CF-466B-9781-A9C3A046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3A6F9-6357-45E2-80F7-D815D1E3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1A2986-FF6F-4E39-818F-2FF0B902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8FF9B7-0A94-4436-9452-C332CA18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348CAE-26C6-481D-82EF-7C9AFA6D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84F5CB-D6FA-43B8-B83D-82C5C583E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BDF88E-9841-49E8-86BF-BEED767E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19C217-E115-458C-96F7-883F60D57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68F986-049A-401A-BEC1-042A47AF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CC2914-D7CE-4681-8F38-672F1D8A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8116BA6-E378-4960-BEA3-0B52D39B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99C468-95EE-428C-B4BF-AEA46CD2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D61B9-7C34-4B05-8676-43B825BE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FE26CF5-B56E-4D85-A02B-6DB89F19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405A43-E3F1-4597-9DB7-F4163B7F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CE576CB-E8B6-40C2-B290-1EF91AC6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45608B-7434-47B6-8D74-80376A0F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80FC35-4983-45DC-A0FB-3A7F98F4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6BC067A-7AB0-4E1F-A417-762782C8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0B3AB3-097D-49CD-A2C4-A1B14589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B5D1A12-8B10-4126-A352-77737D37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2D9A5C-79D6-4DBE-A09C-929E60E0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39F03F5-1D00-442B-A8E6-9D367F9B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7FF45-60EF-4F80-8B96-53356A02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BB2A43-6903-43B1-BE4D-FA31EC8F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925ACE8-7954-47C5-8637-DCC48F2E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587CC14-A7E1-4877-A553-A6758E3F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3EF2959-2865-476D-AE2A-BD6ECF06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3E3A89-B0F2-45A2-BC37-90F27F88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02C121-B6CC-4B88-AB20-23C404EC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25B094A-819F-4418-8CD9-90150BE1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D2997E-3946-4C96-8BEB-BED6221EE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C9EFBC6-06B0-4641-985A-4819BEE3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B349CE8-3D34-42A0-A1EA-F024A55F9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4892E-33FA-431A-A741-F16F628F7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56F537B-DC5B-4134-A44D-7406B1BA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7FDD302-0A9C-46CC-AEFD-59BA3B1B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2D9E2B1-49AB-4BB6-A348-045B4F71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B29A658-5745-4AAD-9B5B-4A337C42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4A59594-9534-4B50-A167-658EE59B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925F5EC-DAAF-49E4-8E61-14B37B6F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2B3BA9F-44DA-4759-9AFD-A9B0182C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BAC5538-B921-4103-817C-291D4C7F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A42AF85-F589-4027-9228-BD338FC6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B43793F-2332-4F85-8065-9D1D155DA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E9684-6085-4A63-B3D3-4B876D6B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C49A45A-34B2-4DD4-801B-1BF8E339E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35230E-7BE7-44B7-A7CE-9848102A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C13EA47-0422-413B-8F64-77AD2F2D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555102-C6C5-4440-B92A-34BB19F6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9C6234E-30D9-414C-A688-B8E56CD4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568BD41-CEF1-4F58-85E6-7469F4A1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6953B55-F307-4493-9078-8532818B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E0DE499-FB9E-4862-9506-0F756466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61CC9E4-B53B-457C-AFA8-7224FCDC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C4446CC-4CA7-475F-84F5-5EADEBDA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09D01-2241-4FA2-9C0B-C0AB4774D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88B9BC8-10B4-444B-B5A2-372C62F4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CD9B03-2811-40C4-85FF-ECCC62E8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7E17E96-7E61-4CF6-A010-E9ECEBFF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21C20-EFAE-46CB-8B7F-AA6D4C51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2730E-AE85-413A-ADBF-50EFA699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DC5E-D21B-4020-84FF-AD81FFF9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FA917-2B8D-401F-A2DD-03F12380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3C768-2DD4-4683-92AF-A1FEA5F0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1CEF2-A4C4-4D91-94E0-5641C1E4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DB33F-FB2F-4337-AF9D-EC1D129B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6C8F6-AB8E-4FFE-8BFE-BB39F479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612AD-16EC-44C4-81A4-EBE3EC9E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80569-3C3D-449E-92C7-7141CEFD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02DBB-4D57-4F17-938B-F4CDAFE8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A19AE-3634-47F3-8C2C-AD1CB8D54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195EF-AB9F-4F13-A52D-2661FCD60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4CE8-5EEA-47AF-AAD4-E8F510C0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746B2-E204-4E49-B679-93B1AA4D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5CD79-9CFB-41B6-8E90-E8A989D6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F31DB-8137-430C-8C13-D2492BA7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048C9-ED9D-431B-B75A-B315E8C6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511FA-86E0-4FCA-8C5D-308B65D9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13E5B-62B5-4A1C-BEFE-D07951D1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68DBA-67C3-41F3-9E6E-77337CFA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71ED5-A4EB-4780-BAFB-7E20D4D4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1CE44-3BC6-47E5-82A8-62050CC9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914CF-B05B-40CA-A031-A036522E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4DDD-0A95-4540-B144-95ADB2FC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DF708-B9B8-4A8A-82B7-25A7A64BB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166F-1AC8-4F4C-9207-7AF00619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2F226-81D6-4045-A858-2B50357D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3540B-E68D-4029-94F7-C44269AA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24EC6-903D-41DB-A4E3-4025E6AA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9D597-8535-4208-B4D3-6D3969A4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AEF1E-0E37-4B47-8DCA-DDECAC7E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15F7E-1EB4-4AE5-881D-FE90F278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74BAA-4B82-466B-88B3-9CFB259F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AA63-F1F3-4720-A30F-92C8EC85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6329A-A2CC-4662-A2B2-F6099830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7C017-F514-4FBD-9D26-959AECA4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F06C9-1BDF-4215-A246-FF7A6025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9D4EB-6D93-4689-BDD7-E7919EBB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B59AE-6CE7-4E70-B23F-7B64A989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F18B6-0614-4F39-AC46-68D09D7F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3119C-7C41-4969-A74D-CFFF0F77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112A2-4870-45C8-AD9D-7688B953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23064-BD80-424F-8AEA-A0F364AC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46776-D113-4940-A136-17E5CB39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2252-D522-4A4D-888E-83D16651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B4E40-6AAF-4BD2-B5B3-CAB96C33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7C0AF-3F89-4A7D-84CD-EF4CA135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6559C-0CEC-4BD6-BD46-4DDA90F8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A4D45-B2F6-4855-BE10-21FDD032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92C6F-B868-4CCD-AF6B-302881EA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9477B-366E-4192-B84F-53CF423C6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5D625-A5F9-4778-B44A-B79E90CF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95721-C789-478B-AF2A-3A49D795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FAB33-F555-480C-A18F-FE443951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E7279-3648-485A-9A15-DB6CB27D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2510-A546-443D-9999-FAC9E34690D3}" type="slidenum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CA33-0085-48E1-8755-E8B7724385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BA45-817E-4CC7-A37E-3D2F933D07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8B88-C6E1-40C2-8C48-8A51DDB3FF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3B19-4941-4133-B7D9-C5348EF901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380A-CEC8-4848-AF22-3947525098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EF8F-5C03-4F3E-801B-DE6DB0F371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C682-F2B0-4988-BA93-B5266465FF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B3FD-040A-4196-9BBC-821AF511E1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D749-F1B6-406B-A6C2-59250A224D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2191-3FD9-4BD3-B022-29752D7BE5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E5BC-56F6-4478-A0D9-090B24CA07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E239-9CD1-498E-8F4D-2827FAD8EA9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1B55-3437-4442-AACA-E6F644429B1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4CFA-ABC7-4086-86A6-3DE57ABD17CE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0309-0BF0-4DEE-BBF2-C062D7C26B5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0E5E-294E-44B1-93C3-35B429B990D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A0B7-0ACF-40AA-8970-7065295127EE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95DE-6DCC-4857-B389-41C1ABAACB30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FA4A-6F17-4CD4-A9DD-0A44B9EB8CF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857C-0D9B-4376-A6F5-4AE594913CF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6B9D-3539-4BA6-AE1F-11214EDAF020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685800" y="1703520"/>
            <a:ext cx="7772400" cy="277560"/>
          </a:xfrm>
          <a:prstGeom prst="rect">
            <a:avLst/>
          </a:prstGeom>
          <a:ln w="0">
            <a:noFill/>
          </a:ln>
        </p:spPr>
      </p:pic>
      <p:sp>
        <p:nvSpPr>
          <p:cNvPr id="83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"/>
          <p:cNvSpPr/>
          <p:nvPr/>
        </p:nvSpPr>
        <p:spPr>
          <a:xfrm>
            <a:off x="8610480" y="3240"/>
            <a:ext cx="0" cy="685800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3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5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6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8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9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0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1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2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4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0F0F-ED58-4FEA-899E-628B88038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656C-68E7-4933-8E0D-D01BF2E2125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9113-C8C9-4C57-B7E1-0EB454B7E14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D352-0663-4A98-94BE-45ED08B0B593}" type="slidenum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EF6F-D566-46E3-8C4E-18A388935993}" type="slidenum">
              <a:rPr b="0" lang="en-N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0" y="678168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0" y="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685800" y="2209680"/>
            <a:ext cx="7848720" cy="3886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0" y="3240"/>
            <a:ext cx="152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0"/>
          <p:cNvSpPr/>
          <p:nvPr/>
        </p:nvSpPr>
        <p:spPr>
          <a:xfrm>
            <a:off x="9067680" y="0"/>
            <a:ext cx="0" cy="6858000"/>
          </a:xfrm>
          <a:prstGeom prst="line">
            <a:avLst/>
          </a:prstGeom>
          <a:ln w="4428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F63A-04EB-4A12-A181-B74A44248E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CE10-9EFD-457E-AF9E-5667D26D72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52E8-6E52-44EF-8C7E-1EC9A48450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0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0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0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Statistics and Modelling Cou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898989"/>
                </a:solidFill>
                <a:latin typeface="Calibri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6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easur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values can it take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Whole numbers or rounded values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ll real numbers (anywhere along the number line – infinite precision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8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easur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values can it take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Whole numbers or rounded values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ll real numbers (anywhere along the number line – infinite precision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question is being asked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0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easur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values can it take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Whole numbers or rounded value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ll real numbers (anywhere along the number line – infinite precision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question is being asked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‘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How </a:t>
                      </a:r>
                      <a:r>
                        <a:rPr b="1" i="1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any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?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2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easur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values can it take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Whole numbers or rounded values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ll real numbers (anywhere along the number line – infinite precision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question is being asked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‘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How </a:t>
                      </a:r>
                      <a:r>
                        <a:rPr b="1" i="1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any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?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‘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How </a:t>
                      </a:r>
                      <a:r>
                        <a:rPr b="1" i="1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ong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?’,  ‘ How </a:t>
                      </a:r>
                      <a:r>
                        <a:rPr b="1" i="1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heavy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?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4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easur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values can it take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Whole numbers or rounded values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ll real numbers (anywhere along the number line – infinite precision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question is being asked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‘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How </a:t>
                      </a:r>
                      <a:r>
                        <a:rPr b="1" i="1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any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?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‘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How </a:t>
                      </a:r>
                      <a:r>
                        <a:rPr b="1" i="1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ong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?’,  ‘ How </a:t>
                      </a:r>
                      <a:r>
                        <a:rPr b="1" i="1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heavy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?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amples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6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easur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values can it take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Whole numbers or rounded values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ll real numbers (anywhere along the number line – infinite precision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question is being asked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‘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How </a:t>
                      </a:r>
                      <a:r>
                        <a:rPr b="1" i="1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any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?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‘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How </a:t>
                      </a:r>
                      <a:r>
                        <a:rPr b="1" i="1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ong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?’,  ‘ How </a:t>
                      </a:r>
                      <a:r>
                        <a:rPr b="1" i="1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heavy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?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amples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Number of students who gained Excellence in last test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oney – if to the nearest dollar/cent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8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easur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values can it take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Whole numbers or rounded values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ll real numbers (anywhere along the number line – infinite precision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question is being asked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‘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How </a:t>
                      </a:r>
                      <a:r>
                        <a:rPr b="1" i="1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any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?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‘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How </a:t>
                      </a:r>
                      <a:r>
                        <a:rPr b="1" i="1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ong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?’,  ‘ How </a:t>
                      </a:r>
                      <a:r>
                        <a:rPr b="1" i="1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heavy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?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amples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Number of students who gained Excellence in last test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oney – if to the nearest dollar/cent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Heigh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Distanc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Weigh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Volum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ime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Random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i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random variable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s a variable (e.g. weight of apples) that can take a range of different valu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Random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i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random variable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s a variable (e.g. weight of apples) that can take a range of different values.  Its value is the outcome being measured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Random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i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random variable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s a variable (e.g. weight of apples) that can take a range of different values.  Its value is the outcome being measured.   We can assign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probabilitie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to different values taken by a random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Number of days a randomly-selected student was late for school last 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_______ random variable;   Possible values: 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Topic: </a:t>
            </a:r>
            <a:r>
              <a:rPr b="1" lang="en-NZ" sz="4400" spc="-1" strike="noStrike">
                <a:solidFill>
                  <a:srgbClr val="000000"/>
                </a:solidFill>
                <a:latin typeface="Calibri"/>
              </a:rPr>
              <a:t>Sample statistics &amp; expec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000000"/>
                </a:solidFill>
                <a:latin typeface="Calibri"/>
              </a:rPr>
              <a:t>Part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 of Achievement Standard 9064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NZ" sz="3600" spc="-1" strike="noStrike">
                <a:solidFill>
                  <a:srgbClr val="000000"/>
                </a:solidFill>
                <a:latin typeface="Calibri"/>
              </a:rPr>
              <a:t>Solve straightforward problems involving probabil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alibri"/>
              </a:rPr>
              <a:t>4 Cred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alibri"/>
              </a:rPr>
              <a:t>Externally Asse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NuLake Pages 147</a:t>
            </a:r>
            <a:r>
              <a:rPr b="0" i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16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Sigma: 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Old version – Ch 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New version – Ch 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Random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i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random variable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s a variable (e.g. weight of apples) that can take a range of different values.  Its value is the outcome being measured.   We can assign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probabilitie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to different values taken by a random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Number of days a randomly-selected student was late for school last 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Discrete random variable;   Possible values: 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Random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i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random variable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s a variable (e.g. weight of apples) that can take a range of different values.  Its value is the outcome being measured.   We can assign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probabilitie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to different values taken by a random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Number of days a randomly-selected student was late for school last 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Discrete random variable;   Possible values: 0, 1, 2, 3, 4,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A poll of 1000 voters to see who favours John Key as P.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_______ random variable;   Possible values: 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Random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i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random variable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s a variable (e.g. weight of apples) that can take a range of different values.  Its value is the outcome being measured.   We can assign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probabilitie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to different values taken by a random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Number of days a randomly-selected student was late for school last 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Discrete random variable;   Possible values: 0, 1, 2, 3, 4,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A poll of 1000 voters to see who favours John Key as P.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Discrete random variable;   Possible values: 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Random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i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random variable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s a variable (e.g. weight of apples) that can take a range of different values.  Its value is the outcome being measured.   We can assign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probabilitie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to different values taken by a random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Number of days a randomly-selected student was late for school last 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Discrete random variable;   Possible values: 0, 1, 2, 3, 4,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A poll of 1000 voters to see who favours John Key as P.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Discrete random variable;   Possible values: 0, 1, 2,……, 999,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The volume of tomato sauce in a bottle – varies sligh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__________random variable;   Values will be 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Random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i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random variable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s a variable (e.g. weight of apples) that can take a range of different values.  Its value is the outcome being measured.   We can assign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probabilitie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to different values taken by a random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Number of days a randomly-selected student was late for school last 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Discrete random variable;   Possible values: 0, 1, 2, 3, 4,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A poll of 1000 voters to see who favours John Key as P.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Discrete random variable;   Possible values: 0, 1, 2,……, 999,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The volume of tomato sauce in a bottle – varies sligh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Continuous random variable; Values will be 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Random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i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random variable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s a variable (e.g. weight of apples) that can take a range of different values.  Its value is the outcome being measured.   We can assign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probabilitie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to different values taken by a random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Number of days a randomly-selected student was late for school last 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Discrete random variable;   Possible values: 0, 1, 2, 3, 4,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A poll of 1000 voters to see who favours John Key as P.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Discrete random variable;   Possible values: 0, 1, 2,……, 999,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The volume of tomato sauce in a bottle – varies sligh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Continuous random variable;   Values will be positive real nu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Random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i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random variable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s a variable (e.g. weight of apples) that can take a range of different values.  Its value is the outcome being measured.   We can assign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probabilitie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to different values taken by a random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Number of days a randomly-selected student was late for school last 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Discrete random variable;   Possible values: 0, 1, 2, 3, 4,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A poll of 1000 voters to see who favours John Key as P.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Discrete random variable;   Possible values: 0, 1, 2,……, 999,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The volume of tomato sauce in a bottle – varies sligh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Continuous random variable;   Values will be positive real nu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TextBox 3"/>
          <p:cNvSpPr/>
          <p:nvPr/>
        </p:nvSpPr>
        <p:spPr>
          <a:xfrm>
            <a:off x="500040" y="857160"/>
            <a:ext cx="7929720" cy="18003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Do Sigma p23 – Ex. 2.1 – Just Q1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9,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and 13 if you’re fas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In new Sigma: p121 – Ex. 7.01 – all q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715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Probability Distributions - </a:t>
            </a:r>
            <a:r>
              <a:rPr b="0" i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fill in notes on hand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 txBox="1"/>
          <p:nvPr/>
        </p:nvSpPr>
        <p:spPr>
          <a:xfrm>
            <a:off x="213840" y="928800"/>
            <a:ext cx="8929800" cy="59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AutoShape 4"/>
          <p:cNvSpPr/>
          <p:nvPr/>
        </p:nvSpPr>
        <p:spPr>
          <a:xfrm>
            <a:off x="395280" y="1773360"/>
            <a:ext cx="55627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Probability Distrib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 txBox="1"/>
          <p:nvPr/>
        </p:nvSpPr>
        <p:spPr>
          <a:xfrm>
            <a:off x="213840" y="928800"/>
            <a:ext cx="8929800" cy="59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Survey:  How many ‘children’ in your fami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Let </a:t>
            </a:r>
            <a:r>
              <a:rPr b="0" i="1" lang="en-N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represent ‘number of children in family’.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AutoShape 4"/>
          <p:cNvSpPr/>
          <p:nvPr/>
        </p:nvSpPr>
        <p:spPr>
          <a:xfrm>
            <a:off x="395280" y="1773360"/>
            <a:ext cx="55627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Probability Distrib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213840" y="928800"/>
            <a:ext cx="8929800" cy="59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Survey:  How many ‘children’ in your fami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Let </a:t>
            </a:r>
            <a:r>
              <a:rPr b="0" i="1" lang="en-N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represent ‘number of children in family’.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8" name=""/>
          <p:cNvGraphicFramePr/>
          <p:nvPr/>
        </p:nvGraphicFramePr>
        <p:xfrm>
          <a:off x="285840" y="1714680"/>
          <a:ext cx="5232240" cy="2205000"/>
        </p:xfrm>
        <a:graphic>
          <a:graphicData uri="http://schemas.openxmlformats.org/drawingml/2006/table">
            <a:tbl>
              <a:tblPr/>
              <a:tblGrid>
                <a:gridCol w="1285920"/>
                <a:gridCol w="500040"/>
                <a:gridCol w="571320"/>
                <a:gridCol w="571680"/>
                <a:gridCol w="571320"/>
                <a:gridCol w="571680"/>
                <a:gridCol w="571320"/>
                <a:gridCol w="58896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equenc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3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iv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equenc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69" name="Object 26"/>
              <p:cNvSpPr txBox="1"/>
              <p:nvPr/>
            </p:nvSpPr>
            <p:spPr>
              <a:xfrm>
                <a:off x="642960" y="3143160"/>
                <a:ext cx="5000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0" name="AutoShape 4"/>
          <p:cNvSpPr/>
          <p:nvPr/>
        </p:nvSpPr>
        <p:spPr>
          <a:xfrm>
            <a:off x="395280" y="1773360"/>
            <a:ext cx="55627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LESSON 1 – Probability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428400" y="1980720"/>
            <a:ext cx="871524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oints of tod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Learn the meaning of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discrete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continuous random </a:t>
            </a:r>
            <a:r>
              <a:rPr b="1" i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variables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Use a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probability distribution table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to display outc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Expected Value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and how do you calculate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Notes on discrete &amp; continuous random vari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Do old Sigma (2</a:t>
            </a:r>
            <a:r>
              <a:rPr b="0" lang="en-NZ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 edition) – p23 – Ex. 2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Notes on probability distribution tables 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</a:rPr>
              <a:t>(handout to fill i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Introduction to </a:t>
            </a:r>
            <a:r>
              <a:rPr b="1" i="1" lang="en-NZ" sz="2000" spc="-1" strike="noStrike">
                <a:solidFill>
                  <a:srgbClr val="000000"/>
                </a:solidFill>
                <a:latin typeface="Times New Roman"/>
              </a:rPr>
              <a:t>Expected Value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"/>
          <p:cNvSpPr txBox="1"/>
          <p:nvPr/>
        </p:nvSpPr>
        <p:spPr>
          <a:xfrm>
            <a:off x="213840" y="0"/>
            <a:ext cx="8929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Survey:  How many ‘children’ in your fami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Let </a:t>
            </a:r>
            <a:r>
              <a:rPr b="0" i="1" lang="en-N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represent ‘number of children in family’.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nd:   probability = long-run relative frequ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So we can draw a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Probability Distribution tabl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from this 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2" name=""/>
          <p:cNvGraphicFramePr/>
          <p:nvPr/>
        </p:nvGraphicFramePr>
        <p:xfrm>
          <a:off x="285840" y="785880"/>
          <a:ext cx="5232240" cy="2205000"/>
        </p:xfrm>
        <a:graphic>
          <a:graphicData uri="http://schemas.openxmlformats.org/drawingml/2006/table">
            <a:tbl>
              <a:tblPr/>
              <a:tblGrid>
                <a:gridCol w="1285920"/>
                <a:gridCol w="500040"/>
                <a:gridCol w="571320"/>
                <a:gridCol w="571680"/>
                <a:gridCol w="571320"/>
                <a:gridCol w="571680"/>
                <a:gridCol w="571320"/>
                <a:gridCol w="58896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equenc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3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iv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equenc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73" name="Object 26"/>
              <p:cNvSpPr txBox="1"/>
              <p:nvPr/>
            </p:nvSpPr>
            <p:spPr>
              <a:xfrm>
                <a:off x="642960" y="2214720"/>
                <a:ext cx="50004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4" name="AutoShape 4"/>
          <p:cNvSpPr/>
          <p:nvPr/>
        </p:nvSpPr>
        <p:spPr>
          <a:xfrm>
            <a:off x="395280" y="844560"/>
            <a:ext cx="55627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5" name=""/>
          <p:cNvGraphicFramePr/>
          <p:nvPr/>
        </p:nvGraphicFramePr>
        <p:xfrm>
          <a:off x="285840" y="4214880"/>
          <a:ext cx="5500440" cy="1307880"/>
        </p:xfrm>
        <a:graphic>
          <a:graphicData uri="http://schemas.openxmlformats.org/drawingml/2006/table">
            <a:tbl>
              <a:tblPr/>
              <a:tblGrid>
                <a:gridCol w="1350720"/>
                <a:gridCol w="527040"/>
                <a:gridCol w="600120"/>
                <a:gridCol w="600120"/>
                <a:gridCol w="601560"/>
                <a:gridCol w="600120"/>
                <a:gridCol w="601920"/>
                <a:gridCol w="618840"/>
              </a:tblGrid>
              <a:tr h="393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X = x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76" name="TextBox 15"/>
          <p:cNvSpPr/>
          <p:nvPr/>
        </p:nvSpPr>
        <p:spPr>
          <a:xfrm>
            <a:off x="0" y="2967120"/>
            <a:ext cx="9144000" cy="8254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alculate the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mean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number of kids per family in this class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TextBox 16"/>
          <p:cNvSpPr/>
          <p:nvPr/>
        </p:nvSpPr>
        <p:spPr>
          <a:xfrm>
            <a:off x="6143760" y="4143240"/>
            <a:ext cx="2786040" cy="1587240"/>
          </a:xfrm>
          <a:prstGeom prst="rect">
            <a:avLst/>
          </a:prstGeom>
          <a:solidFill>
            <a:srgbClr val="66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riable – the outcome from a given tria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lues that</a:t>
            </a:r>
            <a:r>
              <a:rPr b="1" i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an tak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"/>
          <p:cNvSpPr txBox="1"/>
          <p:nvPr/>
        </p:nvSpPr>
        <p:spPr>
          <a:xfrm>
            <a:off x="213840" y="0"/>
            <a:ext cx="8929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Survey:  How many ‘children’ in your fami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Let </a:t>
            </a:r>
            <a:r>
              <a:rPr b="0" i="1" lang="en-N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represent ‘number of children in family’. 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nd:   probability = long-run relative frequ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So we can draw a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Probability Distribution tabl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from this 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Properties of a </a:t>
            </a: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probability distribution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For each value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 probabilities must be between 0&amp;1:   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&lt;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(</a:t>
            </a:r>
            <a:r>
              <a:rPr b="1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NZ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&lt;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probabilities must add to exactly 1 (100%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9" name=""/>
          <p:cNvGraphicFramePr/>
          <p:nvPr/>
        </p:nvGraphicFramePr>
        <p:xfrm>
          <a:off x="285840" y="785880"/>
          <a:ext cx="5232240" cy="2205000"/>
        </p:xfrm>
        <a:graphic>
          <a:graphicData uri="http://schemas.openxmlformats.org/drawingml/2006/table">
            <a:tbl>
              <a:tblPr/>
              <a:tblGrid>
                <a:gridCol w="1285920"/>
                <a:gridCol w="500040"/>
                <a:gridCol w="571320"/>
                <a:gridCol w="571680"/>
                <a:gridCol w="571320"/>
                <a:gridCol w="571680"/>
                <a:gridCol w="571320"/>
                <a:gridCol w="58896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equenc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3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iv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equenc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80" name="Object 26"/>
              <p:cNvSpPr txBox="1"/>
              <p:nvPr/>
            </p:nvSpPr>
            <p:spPr>
              <a:xfrm>
                <a:off x="642960" y="2214720"/>
                <a:ext cx="50004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1" name="AutoShape 4"/>
          <p:cNvSpPr/>
          <p:nvPr/>
        </p:nvSpPr>
        <p:spPr>
          <a:xfrm>
            <a:off x="395280" y="844560"/>
            <a:ext cx="55627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2" name=""/>
          <p:cNvGraphicFramePr/>
          <p:nvPr/>
        </p:nvGraphicFramePr>
        <p:xfrm>
          <a:off x="285840" y="4214880"/>
          <a:ext cx="5500440" cy="1307880"/>
        </p:xfrm>
        <a:graphic>
          <a:graphicData uri="http://schemas.openxmlformats.org/drawingml/2006/table">
            <a:tbl>
              <a:tblPr/>
              <a:tblGrid>
                <a:gridCol w="1350720"/>
                <a:gridCol w="527040"/>
                <a:gridCol w="600120"/>
                <a:gridCol w="600120"/>
                <a:gridCol w="601560"/>
                <a:gridCol w="600120"/>
                <a:gridCol w="601920"/>
                <a:gridCol w="618840"/>
              </a:tblGrid>
              <a:tr h="393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X = x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83" name="Object 7"/>
              <p:cNvSpPr txBox="1"/>
              <p:nvPr/>
            </p:nvSpPr>
            <p:spPr>
              <a:xfrm>
                <a:off x="6802560" y="6143760"/>
                <a:ext cx="12589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4" name="TextBox 13"/>
          <p:cNvSpPr/>
          <p:nvPr/>
        </p:nvSpPr>
        <p:spPr>
          <a:xfrm>
            <a:off x="6072120" y="4071960"/>
            <a:ext cx="2786040" cy="1587240"/>
          </a:xfrm>
          <a:prstGeom prst="rect">
            <a:avLst/>
          </a:prstGeom>
          <a:solidFill>
            <a:srgbClr val="66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riable – the outcome from a given tria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lues that</a:t>
            </a:r>
            <a:r>
              <a:rPr b="1" i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an tak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 txBox="1"/>
          <p:nvPr/>
        </p:nvSpPr>
        <p:spPr>
          <a:xfrm>
            <a:off x="142560" y="0"/>
            <a:ext cx="9001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nd:   probability = long-run relative frequ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So we can draw a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Probability Distribution tabl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from this 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Properties of a </a:t>
            </a: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probability distribution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For each value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 probabilities must be between 0&amp;1:   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&lt;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(</a:t>
            </a:r>
            <a:r>
              <a:rPr b="1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NZ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&lt;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probabilities must sumto exactly 1 (100%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Expected Value   -   E(</a:t>
            </a:r>
            <a:r>
              <a:rPr b="1" i="1" lang="en-NZ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Expected Value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(</a:t>
            </a:r>
            <a:r>
              <a:rPr b="1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s what you’d expect something to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verage out to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in the long run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AutoShape 4"/>
          <p:cNvSpPr/>
          <p:nvPr/>
        </p:nvSpPr>
        <p:spPr>
          <a:xfrm>
            <a:off x="395280" y="844560"/>
            <a:ext cx="55627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7" name=""/>
          <p:cNvGraphicFramePr/>
          <p:nvPr/>
        </p:nvGraphicFramePr>
        <p:xfrm>
          <a:off x="428760" y="1214280"/>
          <a:ext cx="5500440" cy="1308240"/>
        </p:xfrm>
        <a:graphic>
          <a:graphicData uri="http://schemas.openxmlformats.org/drawingml/2006/table">
            <a:tbl>
              <a:tblPr/>
              <a:tblGrid>
                <a:gridCol w="1350720"/>
                <a:gridCol w="527040"/>
                <a:gridCol w="600120"/>
                <a:gridCol w="600120"/>
                <a:gridCol w="601560"/>
                <a:gridCol w="600120"/>
                <a:gridCol w="601920"/>
                <a:gridCol w="618840"/>
              </a:tblGrid>
              <a:tr h="393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X = x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88" name="Object 7"/>
              <p:cNvSpPr txBox="1"/>
              <p:nvPr/>
            </p:nvSpPr>
            <p:spPr>
              <a:xfrm>
                <a:off x="6730920" y="3214800"/>
                <a:ext cx="12607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9" name="TextBox 11"/>
          <p:cNvSpPr/>
          <p:nvPr/>
        </p:nvSpPr>
        <p:spPr>
          <a:xfrm>
            <a:off x="6072120" y="1214280"/>
            <a:ext cx="2786040" cy="1587240"/>
          </a:xfrm>
          <a:prstGeom prst="rect">
            <a:avLst/>
          </a:prstGeom>
          <a:solidFill>
            <a:srgbClr val="66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riable – the outcome from a given tria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lues that</a:t>
            </a:r>
            <a:r>
              <a:rPr b="1" i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an tak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"/>
          <p:cNvSpPr txBox="1"/>
          <p:nvPr/>
        </p:nvSpPr>
        <p:spPr>
          <a:xfrm>
            <a:off x="142560" y="0"/>
            <a:ext cx="9001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Properties of a </a:t>
            </a: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probability distribution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For each value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 probabilities must be between 0&amp;1:   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&lt;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(</a:t>
            </a:r>
            <a:r>
              <a:rPr b="1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NZ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&lt;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probabilities must add to exactly 1 (100%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Expected Value  -  E(</a:t>
            </a:r>
            <a:r>
              <a:rPr b="1" i="1" lang="en-NZ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Expected Value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(</a:t>
            </a:r>
            <a:r>
              <a:rPr b="1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s what you’d expect something to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verage out to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in the long run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can get the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y calculating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portions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relative frequencies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nce we can get the mean by calculating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babilitie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AutoShape 4"/>
          <p:cNvSpPr/>
          <p:nvPr/>
        </p:nvSpPr>
        <p:spPr>
          <a:xfrm>
            <a:off x="395280" y="844560"/>
            <a:ext cx="55627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2" name=""/>
          <p:cNvGraphicFramePr/>
          <p:nvPr/>
        </p:nvGraphicFramePr>
        <p:xfrm>
          <a:off x="500040" y="500040"/>
          <a:ext cx="5500800" cy="1308240"/>
        </p:xfrm>
        <a:graphic>
          <a:graphicData uri="http://schemas.openxmlformats.org/drawingml/2006/table">
            <a:tbl>
              <a:tblPr/>
              <a:tblGrid>
                <a:gridCol w="1351080"/>
                <a:gridCol w="527040"/>
                <a:gridCol w="600120"/>
                <a:gridCol w="600120"/>
                <a:gridCol w="601560"/>
                <a:gridCol w="600120"/>
                <a:gridCol w="601560"/>
                <a:gridCol w="619200"/>
              </a:tblGrid>
              <a:tr h="393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X = x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93" name="Object 2"/>
              <p:cNvSpPr txBox="1"/>
              <p:nvPr/>
            </p:nvSpPr>
            <p:spPr>
              <a:xfrm>
                <a:off x="6588000" y="2571840"/>
                <a:ext cx="12607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94" name="TextBox 5"/>
          <p:cNvSpPr/>
          <p:nvPr/>
        </p:nvSpPr>
        <p:spPr>
          <a:xfrm>
            <a:off x="6143760" y="357120"/>
            <a:ext cx="2786040" cy="1587240"/>
          </a:xfrm>
          <a:prstGeom prst="rect">
            <a:avLst/>
          </a:prstGeom>
          <a:solidFill>
            <a:srgbClr val="66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riable – the outcome from a given tria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lues that</a:t>
            </a:r>
            <a:r>
              <a:rPr b="1" i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an tak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"/>
          <p:cNvSpPr txBox="1"/>
          <p:nvPr/>
        </p:nvSpPr>
        <p:spPr>
          <a:xfrm>
            <a:off x="142560" y="0"/>
            <a:ext cx="9001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Properties of a </a:t>
            </a: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probability distribution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For each value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 probabilities must be between 0&amp;1:  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&lt;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(</a:t>
            </a:r>
            <a:r>
              <a:rPr b="1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NZ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&lt;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probabilities must add to exactly 1 (100%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Expected Value  -  E(</a:t>
            </a:r>
            <a:r>
              <a:rPr b="1" i="1" lang="en-NZ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Expected Value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(</a:t>
            </a:r>
            <a:r>
              <a:rPr b="1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s what you’d expect something to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verage out to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in the long run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can get the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y calculating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portions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relative frequencies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nce we can get the mean by calculating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babilitie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probability, since we are looking at what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ould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ppen rather than what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s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ppened, we call the mean the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Expected Valu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.e.  Mean  = 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(</a:t>
            </a:r>
            <a:r>
              <a:rPr b="1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AutoShape 4"/>
          <p:cNvSpPr/>
          <p:nvPr/>
        </p:nvSpPr>
        <p:spPr>
          <a:xfrm>
            <a:off x="369720" y="463680"/>
            <a:ext cx="55627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7" name=""/>
          <p:cNvGraphicFramePr/>
          <p:nvPr/>
        </p:nvGraphicFramePr>
        <p:xfrm>
          <a:off x="474840" y="119160"/>
          <a:ext cx="5500440" cy="1307880"/>
        </p:xfrm>
        <a:graphic>
          <a:graphicData uri="http://schemas.openxmlformats.org/drawingml/2006/table">
            <a:tbl>
              <a:tblPr/>
              <a:tblGrid>
                <a:gridCol w="1350720"/>
                <a:gridCol w="527040"/>
                <a:gridCol w="600120"/>
                <a:gridCol w="600120"/>
                <a:gridCol w="601560"/>
                <a:gridCol w="600120"/>
                <a:gridCol w="601560"/>
                <a:gridCol w="619200"/>
              </a:tblGrid>
              <a:tr h="393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X = x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98" name="Object 2"/>
              <p:cNvSpPr txBox="1"/>
              <p:nvPr/>
            </p:nvSpPr>
            <p:spPr>
              <a:xfrm>
                <a:off x="6562800" y="2190600"/>
                <a:ext cx="125892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99" name="TextBox 5"/>
          <p:cNvSpPr/>
          <p:nvPr/>
        </p:nvSpPr>
        <p:spPr>
          <a:xfrm>
            <a:off x="6118200" y="47520"/>
            <a:ext cx="2786040" cy="1587240"/>
          </a:xfrm>
          <a:prstGeom prst="rect">
            <a:avLst/>
          </a:prstGeom>
          <a:solidFill>
            <a:srgbClr val="66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riable – the outcome from a given tria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lues that</a:t>
            </a:r>
            <a:r>
              <a:rPr b="1" i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an tak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"/>
          <p:cNvSpPr txBox="1"/>
          <p:nvPr/>
        </p:nvSpPr>
        <p:spPr>
          <a:xfrm>
            <a:off x="142560" y="0"/>
            <a:ext cx="9001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Expected Value  -  E(</a:t>
            </a:r>
            <a:r>
              <a:rPr b="1" i="1" lang="en-NZ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Expected Value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(</a:t>
            </a:r>
            <a:r>
              <a:rPr b="1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s what you’d expect something to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verage out to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in the long run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can get the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y calculating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portions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relative frequencies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nce we can get the mean by calculating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babilitie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probability, since we are looking at what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ould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ppen rather than what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s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ppened, we call the mean the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Expected Valu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.e.  Mean  = 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(</a:t>
            </a:r>
            <a:r>
              <a:rPr b="1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o calculate the Expected Val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Multiply each possible value that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</a:rPr>
              <a:t>X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 can take by its probability of occur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The sum of all of these gives the Expected Value of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</a:rPr>
              <a:t>X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AutoShape 4"/>
          <p:cNvSpPr/>
          <p:nvPr/>
        </p:nvSpPr>
        <p:spPr>
          <a:xfrm>
            <a:off x="369720" y="463680"/>
            <a:ext cx="55627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 Box 4"/>
          <p:cNvSpPr/>
          <p:nvPr/>
        </p:nvSpPr>
        <p:spPr>
          <a:xfrm>
            <a:off x="250920" y="5643720"/>
            <a:ext cx="8893080" cy="112968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RULE: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</a:t>
            </a:r>
            <a:r>
              <a:rPr b="1" i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3" name="Object 5"/>
              <p:cNvSpPr txBox="1"/>
              <p:nvPr/>
            </p:nvSpPr>
            <p:spPr>
              <a:xfrm>
                <a:off x="4024440" y="5572080"/>
                <a:ext cx="28018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 txBox="1"/>
          <p:nvPr/>
        </p:nvSpPr>
        <p:spPr>
          <a:xfrm>
            <a:off x="142560" y="0"/>
            <a:ext cx="9001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can get the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y calculating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portions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relative frequencies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nce we can get the mean by calculating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babilitie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probability, since we are looking at what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ould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ppen rather than what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s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ppened, we call the mean the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Expected Valu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.e.  Mean  = 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o calculate the Expected Val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Multiply each possible value that X can take by its probability of occur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The sum of all of these gives the Expected Value of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AutoShape 4"/>
          <p:cNvSpPr/>
          <p:nvPr/>
        </p:nvSpPr>
        <p:spPr>
          <a:xfrm>
            <a:off x="369720" y="463680"/>
            <a:ext cx="55627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Text Box 4"/>
          <p:cNvSpPr/>
          <p:nvPr/>
        </p:nvSpPr>
        <p:spPr>
          <a:xfrm>
            <a:off x="357120" y="3714840"/>
            <a:ext cx="7848720" cy="119052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RULE: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</a:t>
            </a:r>
            <a:r>
              <a:rPr b="1" i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7" name="Object 5"/>
              <p:cNvSpPr txBox="1"/>
              <p:nvPr/>
            </p:nvSpPr>
            <p:spPr>
              <a:xfrm>
                <a:off x="3935520" y="3643200"/>
                <a:ext cx="28368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08" name="Rectangle 23"/>
          <p:cNvSpPr/>
          <p:nvPr/>
        </p:nvSpPr>
        <p:spPr>
          <a:xfrm>
            <a:off x="0" y="5013360"/>
            <a:ext cx="9144000" cy="18446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Rectangle 27"/>
          <p:cNvSpPr/>
          <p:nvPr/>
        </p:nvSpPr>
        <p:spPr>
          <a:xfrm>
            <a:off x="0" y="5004720"/>
            <a:ext cx="9144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00"/>
                </a:solidFill>
                <a:latin typeface="Comic Sans MS"/>
              </a:rPr>
              <a:t>Example:  I pick a member of this class at random.  Use the formula above to find the expected number of children in that person’s family (including the person chosen).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Calibri"/>
              </a:rPr>
              <a:t>Write your answer in your book.  Show working using the formula abov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"/>
          <p:cNvSpPr txBox="1"/>
          <p:nvPr/>
        </p:nvSpPr>
        <p:spPr>
          <a:xfrm>
            <a:off x="142560" y="0"/>
            <a:ext cx="90010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.e.  Mean  = 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o calculate the Expected Val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Multiply each possible value that X can take by its probability of occur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The sum of all of these gives the Expected Value of 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AutoShape 4"/>
          <p:cNvSpPr/>
          <p:nvPr/>
        </p:nvSpPr>
        <p:spPr>
          <a:xfrm>
            <a:off x="369720" y="463680"/>
            <a:ext cx="55627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 Box 4"/>
          <p:cNvSpPr/>
          <p:nvPr/>
        </p:nvSpPr>
        <p:spPr>
          <a:xfrm>
            <a:off x="285840" y="2000160"/>
            <a:ext cx="7848360" cy="119052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RULE: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</a:t>
            </a:r>
            <a:r>
              <a:rPr b="1" i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3" name="Object 5"/>
              <p:cNvSpPr txBox="1"/>
              <p:nvPr/>
            </p:nvSpPr>
            <p:spPr>
              <a:xfrm>
                <a:off x="3863880" y="1928880"/>
                <a:ext cx="283860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14" name="Rectangle 23"/>
          <p:cNvSpPr/>
          <p:nvPr/>
        </p:nvSpPr>
        <p:spPr>
          <a:xfrm>
            <a:off x="0" y="3143160"/>
            <a:ext cx="9144000" cy="14511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Rectangle 27"/>
          <p:cNvSpPr/>
          <p:nvPr/>
        </p:nvSpPr>
        <p:spPr>
          <a:xfrm>
            <a:off x="179280" y="3122640"/>
            <a:ext cx="8772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00"/>
                </a:solidFill>
                <a:latin typeface="Comic Sans MS"/>
              </a:rPr>
              <a:t>Example:  I pick a member of this class at random.  Use the formula above to find the expected number of children in that person’s family (including the person chosen).</a:t>
            </a: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200" spc="-1" strike="noStrike">
                <a:solidFill>
                  <a:srgbClr val="000000"/>
                </a:solidFill>
                <a:latin typeface="Calibri"/>
              </a:rPr>
              <a:t>Write your answer in your book.  Show working using the formula abov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6" name=""/>
          <p:cNvGraphicFramePr/>
          <p:nvPr/>
        </p:nvGraphicFramePr>
        <p:xfrm>
          <a:off x="539640" y="4594320"/>
          <a:ext cx="8209080" cy="1307880"/>
        </p:xfrm>
        <a:graphic>
          <a:graphicData uri="http://schemas.openxmlformats.org/drawingml/2006/table">
            <a:tbl>
              <a:tblPr/>
              <a:tblGrid>
                <a:gridCol w="1079640"/>
                <a:gridCol w="936720"/>
                <a:gridCol w="936360"/>
                <a:gridCol w="1008360"/>
                <a:gridCol w="1008000"/>
                <a:gridCol w="1079280"/>
                <a:gridCol w="1081080"/>
                <a:gridCol w="1079640"/>
              </a:tblGrid>
              <a:tr h="393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X = x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17" name="Text Box 4"/>
          <p:cNvSpPr/>
          <p:nvPr/>
        </p:nvSpPr>
        <p:spPr>
          <a:xfrm>
            <a:off x="1692360" y="631800"/>
            <a:ext cx="6048360" cy="1169280"/>
          </a:xfrm>
          <a:prstGeom prst="rect">
            <a:avLst/>
          </a:prstGeom>
          <a:solidFill>
            <a:srgbClr val="ffffcc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HW: Do NuLake pg. 154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15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(Q154</a:t>
            </a:r>
            <a:r>
              <a:rPr b="1" i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156).  Finish for HW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LESSON 1A (if time) – Expected Value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428400" y="1980720"/>
            <a:ext cx="871524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oints of tod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Calculate expected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Calculate expected 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</a:rPr>
              <a:t>gains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</a:rPr>
              <a:t>losses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when there is a price/reward associated with the outc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Go over a couple of the HW problems – NuLake p154 &amp; 15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Go through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</a:rPr>
              <a:t>expected gain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 problem on the following sl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More practice of basics?  Do Sigma (old) p25 – Ex. 2.2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Got it.  Ready to do some more applications problems?  Do Sigma (old) p26 – Ex. 2.3 – complete for HW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Rectangle 2"/>
          <p:cNvSpPr/>
          <p:nvPr/>
        </p:nvSpPr>
        <p:spPr>
          <a:xfrm>
            <a:off x="0" y="609480"/>
            <a:ext cx="9144000" cy="11876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Text Box 3"/>
          <p:cNvSpPr/>
          <p:nvPr/>
        </p:nvSpPr>
        <p:spPr>
          <a:xfrm>
            <a:off x="0" y="6094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7.03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Rectangle 4"/>
          <p:cNvSpPr/>
          <p:nvPr/>
        </p:nvSpPr>
        <p:spPr>
          <a:xfrm>
            <a:off x="6845400" y="704844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Rectangle 5"/>
          <p:cNvSpPr/>
          <p:nvPr/>
        </p:nvSpPr>
        <p:spPr>
          <a:xfrm>
            <a:off x="384120" y="556920"/>
            <a:ext cx="839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lottery has three prizes: $2000, $500 and $100. If there are 13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ckets, and assuming all tickets are sold, what should the organis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harge for each ticket if the lottery is to be ‘fair’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Rectangle 6"/>
          <p:cNvSpPr/>
          <p:nvPr/>
        </p:nvSpPr>
        <p:spPr>
          <a:xfrm>
            <a:off x="399600" y="1834560"/>
            <a:ext cx="5267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et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expected winnings form 1 tick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Rectangle 7"/>
          <p:cNvSpPr/>
          <p:nvPr/>
        </p:nvSpPr>
        <p:spPr>
          <a:xfrm>
            <a:off x="390600" y="2246760"/>
            <a:ext cx="72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List the four possible outcomes for the buyer of one tic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4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Rectangle 2"/>
          <p:cNvSpPr/>
          <p:nvPr/>
        </p:nvSpPr>
        <p:spPr>
          <a:xfrm>
            <a:off x="22320" y="657360"/>
            <a:ext cx="9144000" cy="11872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Text Box 3"/>
          <p:cNvSpPr/>
          <p:nvPr/>
        </p:nvSpPr>
        <p:spPr>
          <a:xfrm>
            <a:off x="22320" y="65736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7.03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Rectangle 4"/>
          <p:cNvSpPr/>
          <p:nvPr/>
        </p:nvSpPr>
        <p:spPr>
          <a:xfrm>
            <a:off x="6867360" y="7095960"/>
            <a:ext cx="22989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Rectangle 5"/>
          <p:cNvSpPr/>
          <p:nvPr/>
        </p:nvSpPr>
        <p:spPr>
          <a:xfrm>
            <a:off x="406440" y="604800"/>
            <a:ext cx="839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lottery has three prizes: $2000, $500 and $100. If there are 13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ckets, and assuming all tickets are sold, what should the organis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harge for each ticket if the lottery is to be ‘fair’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Rectangle 7"/>
          <p:cNvSpPr/>
          <p:nvPr/>
        </p:nvSpPr>
        <p:spPr>
          <a:xfrm>
            <a:off x="421560" y="275652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in $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Rectangle 8"/>
          <p:cNvSpPr/>
          <p:nvPr/>
        </p:nvSpPr>
        <p:spPr>
          <a:xfrm>
            <a:off x="405000" y="2284920"/>
            <a:ext cx="834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mic Sans MS"/>
                <a:ea typeface="Arial"/>
              </a:rPr>
              <a:t>The four possible outcomes for the buyer of one ticket ar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Rectangle 9"/>
          <p:cNvSpPr/>
          <p:nvPr/>
        </p:nvSpPr>
        <p:spPr>
          <a:xfrm>
            <a:off x="421200" y="310716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in $5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Rectangle 10"/>
          <p:cNvSpPr/>
          <p:nvPr/>
        </p:nvSpPr>
        <p:spPr>
          <a:xfrm>
            <a:off x="421200" y="348192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in $1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Rectangle 11"/>
          <p:cNvSpPr/>
          <p:nvPr/>
        </p:nvSpPr>
        <p:spPr>
          <a:xfrm>
            <a:off x="421920" y="3835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Rectangle 12"/>
          <p:cNvSpPr/>
          <p:nvPr/>
        </p:nvSpPr>
        <p:spPr>
          <a:xfrm>
            <a:off x="2074320" y="3096720"/>
            <a:ext cx="62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Write down the amount the buyer wins each ca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Rectangle 6"/>
          <p:cNvSpPr/>
          <p:nvPr/>
        </p:nvSpPr>
        <p:spPr>
          <a:xfrm>
            <a:off x="399600" y="1834560"/>
            <a:ext cx="5267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et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expected winnings form 1 tick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2"/>
          <p:cNvSpPr/>
          <p:nvPr/>
        </p:nvSpPr>
        <p:spPr>
          <a:xfrm>
            <a:off x="7920" y="682560"/>
            <a:ext cx="9144000" cy="11876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Text Box 3"/>
          <p:cNvSpPr/>
          <p:nvPr/>
        </p:nvSpPr>
        <p:spPr>
          <a:xfrm>
            <a:off x="7920" y="6825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7.03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Rectangle 4"/>
          <p:cNvSpPr/>
          <p:nvPr/>
        </p:nvSpPr>
        <p:spPr>
          <a:xfrm>
            <a:off x="6853320" y="712152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Rectangle 5"/>
          <p:cNvSpPr/>
          <p:nvPr/>
        </p:nvSpPr>
        <p:spPr>
          <a:xfrm>
            <a:off x="392040" y="630000"/>
            <a:ext cx="839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lottery has three prizes: $2000, $500 and $100. If there are 13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ckets, and assuming all tickets are sold, what should the organis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harge for each ticket if the lottery is to be ‘fair’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Rectangle 7"/>
          <p:cNvSpPr/>
          <p:nvPr/>
        </p:nvSpPr>
        <p:spPr>
          <a:xfrm>
            <a:off x="407160" y="278172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in $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Rectangle 8"/>
          <p:cNvSpPr/>
          <p:nvPr/>
        </p:nvSpPr>
        <p:spPr>
          <a:xfrm>
            <a:off x="7700400" y="386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Rectangle 10"/>
          <p:cNvSpPr/>
          <p:nvPr/>
        </p:nvSpPr>
        <p:spPr>
          <a:xfrm>
            <a:off x="6087240" y="278388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innings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Rectangle 11"/>
          <p:cNvSpPr/>
          <p:nvPr/>
        </p:nvSpPr>
        <p:spPr>
          <a:xfrm>
            <a:off x="7702560" y="27824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Rectangle 12"/>
          <p:cNvSpPr/>
          <p:nvPr/>
        </p:nvSpPr>
        <p:spPr>
          <a:xfrm>
            <a:off x="7701840" y="31316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Rectangle 13"/>
          <p:cNvSpPr/>
          <p:nvPr/>
        </p:nvSpPr>
        <p:spPr>
          <a:xfrm>
            <a:off x="7701840" y="3496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Rectangle 14"/>
          <p:cNvSpPr/>
          <p:nvPr/>
        </p:nvSpPr>
        <p:spPr>
          <a:xfrm>
            <a:off x="407160" y="313272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in $5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Rectangle 15"/>
          <p:cNvSpPr/>
          <p:nvPr/>
        </p:nvSpPr>
        <p:spPr>
          <a:xfrm>
            <a:off x="407160" y="350712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in $1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Rectangle 16"/>
          <p:cNvSpPr/>
          <p:nvPr/>
        </p:nvSpPr>
        <p:spPr>
          <a:xfrm>
            <a:off x="407520" y="3861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Rectangle 17"/>
          <p:cNvSpPr/>
          <p:nvPr/>
        </p:nvSpPr>
        <p:spPr>
          <a:xfrm>
            <a:off x="530280" y="4385160"/>
            <a:ext cx="63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Express this as a probability distribution in a tab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Rectangle 18"/>
          <p:cNvSpPr/>
          <p:nvPr/>
        </p:nvSpPr>
        <p:spPr>
          <a:xfrm>
            <a:off x="390960" y="2310480"/>
            <a:ext cx="834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mic Sans MS"/>
                <a:ea typeface="Arial"/>
              </a:rPr>
              <a:t>The four possible outcomes for the buyer of one ticket ar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Rectangle 6"/>
          <p:cNvSpPr/>
          <p:nvPr/>
        </p:nvSpPr>
        <p:spPr>
          <a:xfrm>
            <a:off x="399600" y="1834560"/>
            <a:ext cx="5267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et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expected winnings form 1 tick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3" name=""/>
          <p:cNvGraphicFramePr/>
          <p:nvPr/>
        </p:nvGraphicFramePr>
        <p:xfrm>
          <a:off x="250920" y="4413240"/>
          <a:ext cx="8388360" cy="1646280"/>
        </p:xfrm>
        <a:graphic>
          <a:graphicData uri="http://schemas.openxmlformats.org/drawingml/2006/table">
            <a:tbl>
              <a:tblPr/>
              <a:tblGrid>
                <a:gridCol w="1677960"/>
                <a:gridCol w="1677960"/>
                <a:gridCol w="1676520"/>
                <a:gridCol w="1677960"/>
                <a:gridCol w="167796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yer’s winnings,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4" name="Rectangle 22"/>
          <p:cNvSpPr/>
          <p:nvPr/>
        </p:nvSpPr>
        <p:spPr>
          <a:xfrm>
            <a:off x="15840" y="655560"/>
            <a:ext cx="9144000" cy="11876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Text Box 23"/>
          <p:cNvSpPr/>
          <p:nvPr/>
        </p:nvSpPr>
        <p:spPr>
          <a:xfrm>
            <a:off x="15840" y="6555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7.03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Rectangle 24"/>
          <p:cNvSpPr/>
          <p:nvPr/>
        </p:nvSpPr>
        <p:spPr>
          <a:xfrm>
            <a:off x="6861240" y="709452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Rectangle 25"/>
          <p:cNvSpPr/>
          <p:nvPr/>
        </p:nvSpPr>
        <p:spPr>
          <a:xfrm>
            <a:off x="399960" y="603000"/>
            <a:ext cx="839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lottery has three prizes: $2000, $500 and $100. If there are 13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ckets, and assuming all tickets are sold, what should the organis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harge for each ticket if the lottery is to be ‘fair’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Rectangle 27"/>
          <p:cNvSpPr/>
          <p:nvPr/>
        </p:nvSpPr>
        <p:spPr>
          <a:xfrm>
            <a:off x="415080" y="275472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in $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Rectangle 28"/>
          <p:cNvSpPr/>
          <p:nvPr/>
        </p:nvSpPr>
        <p:spPr>
          <a:xfrm>
            <a:off x="7708320" y="3834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Rectangle 30"/>
          <p:cNvSpPr/>
          <p:nvPr/>
        </p:nvSpPr>
        <p:spPr>
          <a:xfrm>
            <a:off x="6088680" y="2747520"/>
            <a:ext cx="16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innings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Rectangle 31"/>
          <p:cNvSpPr/>
          <p:nvPr/>
        </p:nvSpPr>
        <p:spPr>
          <a:xfrm>
            <a:off x="7710480" y="27561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Rectangle 32"/>
          <p:cNvSpPr/>
          <p:nvPr/>
        </p:nvSpPr>
        <p:spPr>
          <a:xfrm>
            <a:off x="7709760" y="3105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Rectangle 33"/>
          <p:cNvSpPr/>
          <p:nvPr/>
        </p:nvSpPr>
        <p:spPr>
          <a:xfrm>
            <a:off x="7709760" y="34704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Rectangle 34"/>
          <p:cNvSpPr/>
          <p:nvPr/>
        </p:nvSpPr>
        <p:spPr>
          <a:xfrm>
            <a:off x="415080" y="310572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in $5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Rectangle 35"/>
          <p:cNvSpPr/>
          <p:nvPr/>
        </p:nvSpPr>
        <p:spPr>
          <a:xfrm>
            <a:off x="415080" y="348048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in $1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Rectangle 36"/>
          <p:cNvSpPr/>
          <p:nvPr/>
        </p:nvSpPr>
        <p:spPr>
          <a:xfrm>
            <a:off x="415440" y="3834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7" name="Object 37"/>
          <p:cNvGraphicFramePr/>
          <p:nvPr/>
        </p:nvGraphicFramePr>
        <p:xfrm>
          <a:off x="2486160" y="5321160"/>
          <a:ext cx="67932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8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6160" y="5321160"/>
                    <a:ext cx="6793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9" name="Rectangle 38"/>
          <p:cNvSpPr/>
          <p:nvPr/>
        </p:nvSpPr>
        <p:spPr>
          <a:xfrm>
            <a:off x="1639800" y="3703680"/>
            <a:ext cx="1179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Rectangle 39"/>
          <p:cNvSpPr/>
          <p:nvPr/>
        </p:nvSpPr>
        <p:spPr>
          <a:xfrm>
            <a:off x="1639800" y="3703680"/>
            <a:ext cx="1179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Rectangle 40"/>
          <p:cNvSpPr/>
          <p:nvPr/>
        </p:nvSpPr>
        <p:spPr>
          <a:xfrm>
            <a:off x="1639800" y="3703680"/>
            <a:ext cx="1179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Rectangle 41"/>
          <p:cNvSpPr/>
          <p:nvPr/>
        </p:nvSpPr>
        <p:spPr>
          <a:xfrm>
            <a:off x="1639800" y="3703680"/>
            <a:ext cx="1179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3" name="Object 42"/>
          <p:cNvGraphicFramePr/>
          <p:nvPr/>
        </p:nvGraphicFramePr>
        <p:xfrm>
          <a:off x="4076640" y="5321160"/>
          <a:ext cx="679680" cy="61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4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6640" y="5321160"/>
                    <a:ext cx="67968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5" name="Object 43"/>
          <p:cNvGraphicFramePr/>
          <p:nvPr/>
        </p:nvGraphicFramePr>
        <p:xfrm>
          <a:off x="5629320" y="5321160"/>
          <a:ext cx="67932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6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29320" y="5321160"/>
                    <a:ext cx="6793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7" name="Rectangle 44"/>
          <p:cNvSpPr/>
          <p:nvPr/>
        </p:nvSpPr>
        <p:spPr>
          <a:xfrm>
            <a:off x="398880" y="2283480"/>
            <a:ext cx="834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mic Sans MS"/>
                <a:ea typeface="Arial"/>
              </a:rPr>
              <a:t>The four possible outcomes for the buyer of one ticket ar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Text Box 44"/>
          <p:cNvSpPr/>
          <p:nvPr/>
        </p:nvSpPr>
        <p:spPr>
          <a:xfrm>
            <a:off x="409680" y="6191280"/>
            <a:ext cx="80280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As there 3 winning tickets, the number of losing tickets is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Arial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Text Box 45"/>
          <p:cNvSpPr/>
          <p:nvPr/>
        </p:nvSpPr>
        <p:spPr>
          <a:xfrm>
            <a:off x="7550280" y="6205680"/>
            <a:ext cx="85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Arial"/>
              </a:rPr>
              <a:t>1297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Line 46"/>
          <p:cNvSpPr/>
          <p:nvPr/>
        </p:nvSpPr>
        <p:spPr>
          <a:xfrm flipV="1">
            <a:off x="7535880" y="5854680"/>
            <a:ext cx="0" cy="32544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1" name="Object 1"/>
          <p:cNvGraphicFramePr/>
          <p:nvPr/>
        </p:nvGraphicFramePr>
        <p:xfrm>
          <a:off x="7108920" y="5241960"/>
          <a:ext cx="691920" cy="615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2" name="Object 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08920" y="5241960"/>
                    <a:ext cx="6919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3" name="Rectangle 6"/>
          <p:cNvSpPr/>
          <p:nvPr/>
        </p:nvSpPr>
        <p:spPr>
          <a:xfrm>
            <a:off x="399600" y="1834560"/>
            <a:ext cx="5267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et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expected winnings form 1 tick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Rectangle 22"/>
          <p:cNvSpPr/>
          <p:nvPr/>
        </p:nvSpPr>
        <p:spPr>
          <a:xfrm>
            <a:off x="0" y="495360"/>
            <a:ext cx="9144000" cy="11872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Text Box 23"/>
          <p:cNvSpPr/>
          <p:nvPr/>
        </p:nvSpPr>
        <p:spPr>
          <a:xfrm>
            <a:off x="0" y="4953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7.03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24"/>
          <p:cNvSpPr/>
          <p:nvPr/>
        </p:nvSpPr>
        <p:spPr>
          <a:xfrm>
            <a:off x="6845400" y="693432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Rectangle 25"/>
          <p:cNvSpPr/>
          <p:nvPr/>
        </p:nvSpPr>
        <p:spPr>
          <a:xfrm>
            <a:off x="384120" y="442800"/>
            <a:ext cx="839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lottery has three prizes: $2000, $500 and $100. If there are 13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ckets, and assuming all tickets are sold, what should the organis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harge for each ticket if the lottery is to be ‘fair’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8" name="Object 26"/>
          <p:cNvGraphicFramePr/>
          <p:nvPr/>
        </p:nvGraphicFramePr>
        <p:xfrm>
          <a:off x="2470320" y="2844720"/>
          <a:ext cx="67932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9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0320" y="2844720"/>
                    <a:ext cx="6793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0" name="Rectangle 27"/>
          <p:cNvSpPr/>
          <p:nvPr/>
        </p:nvSpPr>
        <p:spPr>
          <a:xfrm>
            <a:off x="1623960" y="3543480"/>
            <a:ext cx="1179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Rectangle 28"/>
          <p:cNvSpPr/>
          <p:nvPr/>
        </p:nvSpPr>
        <p:spPr>
          <a:xfrm>
            <a:off x="1623960" y="3543480"/>
            <a:ext cx="1179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Rectangle 29"/>
          <p:cNvSpPr/>
          <p:nvPr/>
        </p:nvSpPr>
        <p:spPr>
          <a:xfrm>
            <a:off x="1623960" y="3543480"/>
            <a:ext cx="1179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Rectangle 30"/>
          <p:cNvSpPr/>
          <p:nvPr/>
        </p:nvSpPr>
        <p:spPr>
          <a:xfrm>
            <a:off x="1623960" y="3543480"/>
            <a:ext cx="1179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4" name="Object 31"/>
          <p:cNvGraphicFramePr/>
          <p:nvPr/>
        </p:nvGraphicFramePr>
        <p:xfrm>
          <a:off x="4060800" y="2844720"/>
          <a:ext cx="679320" cy="61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5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0800" y="2844720"/>
                    <a:ext cx="6793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6" name="Object 32"/>
          <p:cNvGraphicFramePr/>
          <p:nvPr/>
        </p:nvGraphicFramePr>
        <p:xfrm>
          <a:off x="5613480" y="2844720"/>
          <a:ext cx="67932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7" name="Object 3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13480" y="2844720"/>
                    <a:ext cx="6793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8" name="Object 33"/>
          <p:cNvGraphicFramePr/>
          <p:nvPr/>
        </p:nvGraphicFramePr>
        <p:xfrm>
          <a:off x="7108920" y="2857680"/>
          <a:ext cx="691920" cy="615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9" name="Object 3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08920" y="2857680"/>
                    <a:ext cx="691920" cy="61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0" name="Text Box 34"/>
          <p:cNvSpPr/>
          <p:nvPr/>
        </p:nvSpPr>
        <p:spPr>
          <a:xfrm>
            <a:off x="514440" y="3627360"/>
            <a:ext cx="78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Arial"/>
              </a:rPr>
              <a:t>Write down an expression for the expected valu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1" name=""/>
          <p:cNvGraphicFramePr/>
          <p:nvPr/>
        </p:nvGraphicFramePr>
        <p:xfrm>
          <a:off x="228600" y="1897200"/>
          <a:ext cx="8386920" cy="1646280"/>
        </p:xfrm>
        <a:graphic>
          <a:graphicData uri="http://schemas.openxmlformats.org/drawingml/2006/table">
            <a:tbl>
              <a:tblPr/>
              <a:tblGrid>
                <a:gridCol w="1677960"/>
                <a:gridCol w="1677960"/>
                <a:gridCol w="1674720"/>
                <a:gridCol w="1677960"/>
                <a:gridCol w="16783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yer’s winnings,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Rectangle 22"/>
          <p:cNvSpPr/>
          <p:nvPr/>
        </p:nvSpPr>
        <p:spPr>
          <a:xfrm>
            <a:off x="0" y="519120"/>
            <a:ext cx="9144000" cy="11872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Text Box 23"/>
          <p:cNvSpPr/>
          <p:nvPr/>
        </p:nvSpPr>
        <p:spPr>
          <a:xfrm>
            <a:off x="0" y="51912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7.03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24"/>
          <p:cNvSpPr/>
          <p:nvPr/>
        </p:nvSpPr>
        <p:spPr>
          <a:xfrm>
            <a:off x="6845400" y="695808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25"/>
          <p:cNvSpPr/>
          <p:nvPr/>
        </p:nvSpPr>
        <p:spPr>
          <a:xfrm>
            <a:off x="384120" y="466560"/>
            <a:ext cx="839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lottery has three prizes: $2000, $500 and $100. If there are 13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ckets, and assuming all tickets are sold, what should the organis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harge for each ticket if the lottery is to be ‘fair’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6" name="Object 26"/>
          <p:cNvGraphicFramePr/>
          <p:nvPr/>
        </p:nvGraphicFramePr>
        <p:xfrm>
          <a:off x="2470320" y="2716200"/>
          <a:ext cx="67932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7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0320" y="2716200"/>
                    <a:ext cx="6793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8" name="Rectangle 27"/>
          <p:cNvSpPr/>
          <p:nvPr/>
        </p:nvSpPr>
        <p:spPr>
          <a:xfrm>
            <a:off x="1623960" y="3414600"/>
            <a:ext cx="1179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1623960" y="3414600"/>
            <a:ext cx="1179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1623960" y="3414600"/>
            <a:ext cx="1179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Rectangle 30"/>
          <p:cNvSpPr/>
          <p:nvPr/>
        </p:nvSpPr>
        <p:spPr>
          <a:xfrm>
            <a:off x="1623960" y="3414600"/>
            <a:ext cx="1179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2" name="Object 31"/>
          <p:cNvGraphicFramePr/>
          <p:nvPr/>
        </p:nvGraphicFramePr>
        <p:xfrm>
          <a:off x="4060800" y="2716200"/>
          <a:ext cx="679320" cy="61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3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0800" y="2716200"/>
                    <a:ext cx="6793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4" name="Object 32"/>
          <p:cNvGraphicFramePr/>
          <p:nvPr/>
        </p:nvGraphicFramePr>
        <p:xfrm>
          <a:off x="5613480" y="2716200"/>
          <a:ext cx="67932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5" name="Object 3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13480" y="2716200"/>
                    <a:ext cx="6793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6" name="Object 33"/>
          <p:cNvGraphicFramePr/>
          <p:nvPr/>
        </p:nvGraphicFramePr>
        <p:xfrm>
          <a:off x="7108920" y="2728800"/>
          <a:ext cx="691920" cy="615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7" name="Object 3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08920" y="2728800"/>
                    <a:ext cx="6919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8" name="Rectangle 34"/>
          <p:cNvSpPr/>
          <p:nvPr/>
        </p:nvSpPr>
        <p:spPr>
          <a:xfrm>
            <a:off x="0" y="38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9" name="Object 35"/>
          <p:cNvGraphicFramePr/>
          <p:nvPr/>
        </p:nvGraphicFramePr>
        <p:xfrm>
          <a:off x="439560" y="3736800"/>
          <a:ext cx="965520" cy="34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20" name="Object 3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9560" y="3736800"/>
                    <a:ext cx="9655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1" name="Text Box 40"/>
          <p:cNvSpPr/>
          <p:nvPr/>
        </p:nvSpPr>
        <p:spPr>
          <a:xfrm>
            <a:off x="260280" y="4832280"/>
            <a:ext cx="81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If the lottery is fair the ticket price must be equal to the expected winnings per ticket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Text Box 42"/>
          <p:cNvSpPr/>
          <p:nvPr/>
        </p:nvSpPr>
        <p:spPr>
          <a:xfrm>
            <a:off x="241200" y="5686560"/>
            <a:ext cx="76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i.e. on average, nobody gains and nobody lo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Oval 43"/>
          <p:cNvSpPr/>
          <p:nvPr/>
        </p:nvSpPr>
        <p:spPr>
          <a:xfrm>
            <a:off x="2124000" y="1427040"/>
            <a:ext cx="1513080" cy="2008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Oval 44"/>
          <p:cNvSpPr/>
          <p:nvPr/>
        </p:nvSpPr>
        <p:spPr>
          <a:xfrm>
            <a:off x="3708360" y="1427040"/>
            <a:ext cx="1513080" cy="2008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Oval 45"/>
          <p:cNvSpPr/>
          <p:nvPr/>
        </p:nvSpPr>
        <p:spPr>
          <a:xfrm>
            <a:off x="5292720" y="1427040"/>
            <a:ext cx="1512720" cy="2008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Oval 46"/>
          <p:cNvSpPr/>
          <p:nvPr/>
        </p:nvSpPr>
        <p:spPr>
          <a:xfrm>
            <a:off x="6877080" y="1500120"/>
            <a:ext cx="1512720" cy="2008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7" name=""/>
          <p:cNvGraphicFramePr/>
          <p:nvPr/>
        </p:nvGraphicFramePr>
        <p:xfrm>
          <a:off x="228600" y="1897200"/>
          <a:ext cx="8386920" cy="1646280"/>
        </p:xfrm>
        <a:graphic>
          <a:graphicData uri="http://schemas.openxmlformats.org/drawingml/2006/table">
            <a:tbl>
              <a:tblPr/>
              <a:tblGrid>
                <a:gridCol w="1677960"/>
                <a:gridCol w="1677960"/>
                <a:gridCol w="1674720"/>
                <a:gridCol w="1677960"/>
                <a:gridCol w="16783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yer’s winnings,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8" name="Text Box 43"/>
          <p:cNvSpPr/>
          <p:nvPr/>
        </p:nvSpPr>
        <p:spPr>
          <a:xfrm>
            <a:off x="347760" y="6143760"/>
            <a:ext cx="56671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o the tickets should sell for $___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5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4" dur="3000" fill="hold"/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5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9" name=""/>
          <p:cNvGraphicFramePr/>
          <p:nvPr/>
        </p:nvGraphicFramePr>
        <p:xfrm>
          <a:off x="228600" y="1897200"/>
          <a:ext cx="8386920" cy="1646280"/>
        </p:xfrm>
        <a:graphic>
          <a:graphicData uri="http://schemas.openxmlformats.org/drawingml/2006/table">
            <a:tbl>
              <a:tblPr/>
              <a:tblGrid>
                <a:gridCol w="1677960"/>
                <a:gridCol w="1677960"/>
                <a:gridCol w="1674720"/>
                <a:gridCol w="1677960"/>
                <a:gridCol w="16783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yer’s winnings,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0" name="Rectangle 22"/>
          <p:cNvSpPr/>
          <p:nvPr/>
        </p:nvSpPr>
        <p:spPr>
          <a:xfrm>
            <a:off x="0" y="519120"/>
            <a:ext cx="9144000" cy="11872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Text Box 23"/>
          <p:cNvSpPr/>
          <p:nvPr/>
        </p:nvSpPr>
        <p:spPr>
          <a:xfrm>
            <a:off x="0" y="51912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7.03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Rectangle 24"/>
          <p:cNvSpPr/>
          <p:nvPr/>
        </p:nvSpPr>
        <p:spPr>
          <a:xfrm>
            <a:off x="6845400" y="695808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Rectangle 25"/>
          <p:cNvSpPr/>
          <p:nvPr/>
        </p:nvSpPr>
        <p:spPr>
          <a:xfrm>
            <a:off x="384120" y="466560"/>
            <a:ext cx="839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lottery has three prizes: $2000, $500 and $100. If there are 13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ickets, and assuming all tickets are sold, what should the organis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harge for each ticket if the lottery is to be ‘fair’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4" name="Object 26"/>
          <p:cNvGraphicFramePr/>
          <p:nvPr/>
        </p:nvGraphicFramePr>
        <p:xfrm>
          <a:off x="2470320" y="2716200"/>
          <a:ext cx="67932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5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0320" y="2716200"/>
                    <a:ext cx="6793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6" name="Rectangle 27"/>
          <p:cNvSpPr/>
          <p:nvPr/>
        </p:nvSpPr>
        <p:spPr>
          <a:xfrm>
            <a:off x="1623960" y="3414600"/>
            <a:ext cx="1179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28"/>
          <p:cNvSpPr/>
          <p:nvPr/>
        </p:nvSpPr>
        <p:spPr>
          <a:xfrm>
            <a:off x="1623960" y="3414600"/>
            <a:ext cx="1179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ctangle 29"/>
          <p:cNvSpPr/>
          <p:nvPr/>
        </p:nvSpPr>
        <p:spPr>
          <a:xfrm>
            <a:off x="1623960" y="3414600"/>
            <a:ext cx="1179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Rectangle 30"/>
          <p:cNvSpPr/>
          <p:nvPr/>
        </p:nvSpPr>
        <p:spPr>
          <a:xfrm>
            <a:off x="1623960" y="3414600"/>
            <a:ext cx="1179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0" name="Object 31"/>
          <p:cNvGraphicFramePr/>
          <p:nvPr/>
        </p:nvGraphicFramePr>
        <p:xfrm>
          <a:off x="4060800" y="2716200"/>
          <a:ext cx="679320" cy="61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1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0800" y="2716200"/>
                    <a:ext cx="6793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2" name="Object 32"/>
          <p:cNvGraphicFramePr/>
          <p:nvPr/>
        </p:nvGraphicFramePr>
        <p:xfrm>
          <a:off x="5613480" y="2716200"/>
          <a:ext cx="67932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3" name="Object 3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13480" y="2716200"/>
                    <a:ext cx="6793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4" name="Object 33"/>
          <p:cNvGraphicFramePr/>
          <p:nvPr/>
        </p:nvGraphicFramePr>
        <p:xfrm>
          <a:off x="7108920" y="2728800"/>
          <a:ext cx="691920" cy="615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45" name="Object 3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08920" y="2728800"/>
                    <a:ext cx="6919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6" name="Rectangle 34"/>
          <p:cNvSpPr/>
          <p:nvPr/>
        </p:nvSpPr>
        <p:spPr>
          <a:xfrm>
            <a:off x="0" y="38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7" name="Object 35"/>
          <p:cNvGraphicFramePr/>
          <p:nvPr/>
        </p:nvGraphicFramePr>
        <p:xfrm>
          <a:off x="439560" y="3736800"/>
          <a:ext cx="965520" cy="34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48" name="Object 3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9560" y="3736800"/>
                    <a:ext cx="9655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9" name="Text Box 40"/>
          <p:cNvSpPr/>
          <p:nvPr/>
        </p:nvSpPr>
        <p:spPr>
          <a:xfrm>
            <a:off x="260280" y="4832280"/>
            <a:ext cx="81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If the lottery is fair the ticket price must be equal to the expected winnings per ticket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Text Box 42"/>
          <p:cNvSpPr/>
          <p:nvPr/>
        </p:nvSpPr>
        <p:spPr>
          <a:xfrm>
            <a:off x="241200" y="5686560"/>
            <a:ext cx="76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i.e. on average, nobody gains and nobody lo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Text Box 43"/>
          <p:cNvSpPr/>
          <p:nvPr/>
        </p:nvSpPr>
        <p:spPr>
          <a:xfrm>
            <a:off x="347760" y="6143760"/>
            <a:ext cx="56671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o the tickets should sell for $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Box 29"/>
          <p:cNvSpPr/>
          <p:nvPr/>
        </p:nvSpPr>
        <p:spPr>
          <a:xfrm>
            <a:off x="322200" y="744480"/>
            <a:ext cx="8356680" cy="20739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0000"/>
                </a:solidFill>
                <a:latin typeface="Comic Sans MS"/>
              </a:rPr>
              <a:t>Need more practice of the basics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Do Sigma (old) – pg. 25 – Ex. 2.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0000"/>
                </a:solidFill>
                <a:latin typeface="Comic Sans MS"/>
              </a:rPr>
              <a:t>Got it. Now ready to do more applied problems like this one: </a:t>
            </a:r>
            <a:r>
              <a:rPr b="1" lang="en-NZ" sz="2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Do Sigma pg. 26 – Ex. 2.3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2155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Times New Roman"/>
              </a:rPr>
              <a:t>LESSON 2 – Calculate the </a:t>
            </a:r>
            <a:r>
              <a:rPr b="0" i="1" lang="en-NZ" sz="3600" spc="-1" strike="noStrike">
                <a:solidFill>
                  <a:srgbClr val="000000"/>
                </a:solidFill>
                <a:latin typeface="Times New Roman"/>
              </a:rPr>
              <a:t>Variance</a:t>
            </a:r>
            <a:r>
              <a:rPr b="0" lang="en-NZ" sz="3600" spc="-1" strike="noStrike">
                <a:solidFill>
                  <a:srgbClr val="000000"/>
                </a:solidFill>
                <a:latin typeface="Times New Roman"/>
              </a:rPr>
              <a:t> from a probability distribution table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428400" y="1980720"/>
            <a:ext cx="871524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oints of tod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Calculate the expected value of a 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of a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Learn how to calculate the 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</a:rPr>
              <a:t>variance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from a probability distribution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Go over a couple of the HW problems – NuLake pg. 154</a:t>
            </a: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156 (focus on application qs as this is the emphasis in NCE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Briefly go through how to calculate the expected value of a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 of a variable – examples on next sl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Notes on how to calculate the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</a:rPr>
              <a:t>variance 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of a random variable (most of lesson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Do NuLake pg. 158</a:t>
            </a: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161 (finish for H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Rectangle 2"/>
          <p:cNvSpPr/>
          <p:nvPr/>
        </p:nvSpPr>
        <p:spPr>
          <a:xfrm>
            <a:off x="2857680" y="5715000"/>
            <a:ext cx="436320" cy="5335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ctangle 3"/>
          <p:cNvSpPr/>
          <p:nvPr/>
        </p:nvSpPr>
        <p:spPr>
          <a:xfrm>
            <a:off x="2819520" y="4195800"/>
            <a:ext cx="436320" cy="5335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Rectangle 4"/>
          <p:cNvSpPr/>
          <p:nvPr/>
        </p:nvSpPr>
        <p:spPr>
          <a:xfrm>
            <a:off x="0" y="0"/>
            <a:ext cx="9144000" cy="15494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Rectangle 6"/>
          <p:cNvSpPr/>
          <p:nvPr/>
        </p:nvSpPr>
        <p:spPr>
          <a:xfrm>
            <a:off x="2819520" y="2592360"/>
            <a:ext cx="536400" cy="5335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7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Rectangle 8"/>
          <p:cNvSpPr/>
          <p:nvPr/>
        </p:nvSpPr>
        <p:spPr>
          <a:xfrm>
            <a:off x="0" y="36144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random varia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has 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9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Calculate: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E(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E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Rectangle 9"/>
          <p:cNvSpPr/>
          <p:nvPr/>
        </p:nvSpPr>
        <p:spPr>
          <a:xfrm>
            <a:off x="2781000" y="1611720"/>
            <a:ext cx="13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Rectangle 10"/>
          <p:cNvSpPr/>
          <p:nvPr/>
        </p:nvSpPr>
        <p:spPr>
          <a:xfrm>
            <a:off x="369360" y="325980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2)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Rectangle 11"/>
          <p:cNvSpPr/>
          <p:nvPr/>
        </p:nvSpPr>
        <p:spPr>
          <a:xfrm>
            <a:off x="419760" y="1611720"/>
            <a:ext cx="26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E(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2"/>
          <p:cNvSpPr/>
          <p:nvPr/>
        </p:nvSpPr>
        <p:spPr>
          <a:xfrm>
            <a:off x="2540160" y="211032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Rectangle 13"/>
          <p:cNvSpPr/>
          <p:nvPr/>
        </p:nvSpPr>
        <p:spPr>
          <a:xfrm>
            <a:off x="2577600" y="260892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3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4"/>
          <p:cNvSpPr/>
          <p:nvPr/>
        </p:nvSpPr>
        <p:spPr>
          <a:xfrm>
            <a:off x="2647440" y="325980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–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5"/>
          <p:cNvSpPr/>
          <p:nvPr/>
        </p:nvSpPr>
        <p:spPr>
          <a:xfrm>
            <a:off x="2577960" y="375804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9 –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6"/>
          <p:cNvSpPr/>
          <p:nvPr/>
        </p:nvSpPr>
        <p:spPr>
          <a:xfrm>
            <a:off x="2787120" y="485676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+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7"/>
          <p:cNvSpPr/>
          <p:nvPr/>
        </p:nvSpPr>
        <p:spPr>
          <a:xfrm>
            <a:off x="2566440" y="585504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2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8"/>
          <p:cNvSpPr/>
          <p:nvPr/>
        </p:nvSpPr>
        <p:spPr>
          <a:xfrm>
            <a:off x="357480" y="4856760"/>
            <a:ext cx="254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3)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9"/>
          <p:cNvSpPr/>
          <p:nvPr/>
        </p:nvSpPr>
        <p:spPr>
          <a:xfrm>
            <a:off x="2528640" y="535500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9 +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Rectangle 20"/>
          <p:cNvSpPr/>
          <p:nvPr/>
        </p:nvSpPr>
        <p:spPr>
          <a:xfrm>
            <a:off x="2577960" y="425664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TextBox 20"/>
          <p:cNvSpPr/>
          <p:nvPr/>
        </p:nvSpPr>
        <p:spPr>
          <a:xfrm>
            <a:off x="214200" y="6365880"/>
            <a:ext cx="8358480" cy="4899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Do Sigma pg. 29 – Ex. 2.4 – </a:t>
            </a: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10 mins</a:t>
            </a: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 u="sng">
                <a:solidFill>
                  <a:srgbClr val="000000"/>
                </a:solidFill>
                <a:uFillTx/>
                <a:latin typeface="Comic Sans MS"/>
              </a:rPr>
              <a:t>Vari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820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The average of the squared distances from the mean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Var(X)     =  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Var(X) </a:t>
            </a:r>
            <a:r>
              <a:rPr b="1" i="1" lang="en-NZ" sz="24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E[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(X –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μ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This can be re-arranged to 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 Box 4"/>
          <p:cNvSpPr/>
          <p:nvPr/>
        </p:nvSpPr>
        <p:spPr>
          <a:xfrm>
            <a:off x="5003640" y="3500280"/>
            <a:ext cx="3961080" cy="10087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The same as saying the “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Expected”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squared distance from the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population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mea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Rectangle 11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8" name="Object 10"/>
              <p:cNvSpPr txBox="1"/>
              <p:nvPr/>
            </p:nvSpPr>
            <p:spPr>
              <a:xfrm>
                <a:off x="2771640" y="2133720"/>
                <a:ext cx="216072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9" name="Text Box 12"/>
          <p:cNvSpPr/>
          <p:nvPr/>
        </p:nvSpPr>
        <p:spPr>
          <a:xfrm>
            <a:off x="250920" y="5445000"/>
            <a:ext cx="8424720" cy="99864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38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Var(X)    =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   E(X</a:t>
            </a:r>
            <a:r>
              <a:rPr b="1" lang="en-NZ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   –   </a:t>
            </a: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E(X)</a:t>
            </a: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1" lang="en-NZ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36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 u="sng">
                <a:solidFill>
                  <a:srgbClr val="000000"/>
                </a:solidFill>
                <a:uFillTx/>
                <a:latin typeface="Comic Sans MS"/>
              </a:rPr>
              <a:t>Vari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820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The average of the squared distances from the mean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Var(X)     =  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Var(X) </a:t>
            </a:r>
            <a:r>
              <a:rPr b="1" i="1" lang="en-NZ" sz="24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E[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(X –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μ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This can be re-arranged to 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Text Box 4"/>
          <p:cNvSpPr/>
          <p:nvPr/>
        </p:nvSpPr>
        <p:spPr>
          <a:xfrm>
            <a:off x="5003640" y="3500280"/>
            <a:ext cx="3961080" cy="10087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The same as saying the “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Expected”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squared distance from the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population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mea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Rectangle 5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4" name="Object 6"/>
              <p:cNvSpPr txBox="1"/>
              <p:nvPr/>
            </p:nvSpPr>
            <p:spPr>
              <a:xfrm>
                <a:off x="2771640" y="2133720"/>
                <a:ext cx="216072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5" name="Text Box 7"/>
          <p:cNvSpPr/>
          <p:nvPr/>
        </p:nvSpPr>
        <p:spPr>
          <a:xfrm>
            <a:off x="250920" y="5445000"/>
            <a:ext cx="8424720" cy="108072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38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Var(X)    =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   E(X</a:t>
            </a:r>
            <a:r>
              <a:rPr b="1" lang="en-NZ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   –    </a:t>
            </a:r>
            <a:r>
              <a:rPr b="1" lang="el-GR" sz="4800" spc="-1" strike="noStrike">
                <a:solidFill>
                  <a:srgbClr val="000000"/>
                </a:solidFill>
                <a:latin typeface="Comic Sans MS"/>
              </a:rPr>
              <a:t>μ</a:t>
            </a:r>
            <a:r>
              <a:rPr b="1" lang="en-NZ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36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6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 u="sng">
                <a:solidFill>
                  <a:srgbClr val="000000"/>
                </a:solidFill>
                <a:uFillTx/>
                <a:latin typeface="Comic Sans MS"/>
              </a:rPr>
              <a:t>Vari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820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The average of the squared distances from the mean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Var(X)     =  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Var(X) </a:t>
            </a:r>
            <a:r>
              <a:rPr b="1" i="1" lang="en-NZ" sz="24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E[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(X –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μ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This can be re-arranged to 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Text Box 4"/>
          <p:cNvSpPr/>
          <p:nvPr/>
        </p:nvSpPr>
        <p:spPr>
          <a:xfrm>
            <a:off x="5003640" y="3500280"/>
            <a:ext cx="3961080" cy="10087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The same as saying the “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Expected”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squared distance from the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population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mea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5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0" name="Object 6"/>
              <p:cNvSpPr txBox="1"/>
              <p:nvPr/>
            </p:nvSpPr>
            <p:spPr>
              <a:xfrm>
                <a:off x="2771640" y="2133720"/>
                <a:ext cx="216072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1" name="Text Box 7"/>
          <p:cNvSpPr/>
          <p:nvPr/>
        </p:nvSpPr>
        <p:spPr>
          <a:xfrm>
            <a:off x="250920" y="5445000"/>
            <a:ext cx="8424720" cy="99864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38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Var(X)    =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   E(X</a:t>
            </a:r>
            <a:r>
              <a:rPr b="1" lang="en-NZ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   –   </a:t>
            </a: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E(X)</a:t>
            </a: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1" lang="en-NZ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36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Rectangle 2"/>
          <p:cNvSpPr/>
          <p:nvPr/>
        </p:nvSpPr>
        <p:spPr>
          <a:xfrm>
            <a:off x="0" y="0"/>
            <a:ext cx="9144000" cy="22766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7.05D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Rectangle 4"/>
          <p:cNvSpPr/>
          <p:nvPr/>
        </p:nvSpPr>
        <p:spPr>
          <a:xfrm>
            <a:off x="2000160" y="6399360"/>
            <a:ext cx="2286000" cy="395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Rectangle 5"/>
          <p:cNvSpPr/>
          <p:nvPr/>
        </p:nvSpPr>
        <p:spPr>
          <a:xfrm>
            <a:off x="254520" y="-1800"/>
            <a:ext cx="888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952560"/>
                <a:tab algn="r" pos="1492200"/>
                <a:tab algn="r" pos="2031840"/>
                <a:tab algn="r" pos="2546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Calculate the mean, variance and standard deviation for th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robability distribution. Use the formula VAR(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) = E(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) –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µ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or the varian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Rectangle 6"/>
          <p:cNvSpPr/>
          <p:nvPr/>
        </p:nvSpPr>
        <p:spPr>
          <a:xfrm>
            <a:off x="0" y="2313360"/>
            <a:ext cx="13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Rectangle 7"/>
          <p:cNvSpPr/>
          <p:nvPr/>
        </p:nvSpPr>
        <p:spPr>
          <a:xfrm>
            <a:off x="1145880" y="262800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9040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26.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Rectangle 8"/>
          <p:cNvSpPr/>
          <p:nvPr/>
        </p:nvSpPr>
        <p:spPr>
          <a:xfrm>
            <a:off x="1157760" y="3256200"/>
            <a:ext cx="79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0.18    +   2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0.32    +   3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0.15    +   4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0.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Rectangle 9"/>
          <p:cNvSpPr/>
          <p:nvPr/>
        </p:nvSpPr>
        <p:spPr>
          <a:xfrm>
            <a:off x="1246320" y="3570840"/>
            <a:ext cx="31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18 + 128 + 135 + 56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Rectangle 10"/>
          <p:cNvSpPr/>
          <p:nvPr/>
        </p:nvSpPr>
        <p:spPr>
          <a:xfrm>
            <a:off x="1247400" y="388512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84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Rectangle 11"/>
          <p:cNvSpPr/>
          <p:nvPr/>
        </p:nvSpPr>
        <p:spPr>
          <a:xfrm>
            <a:off x="595440" y="4513680"/>
            <a:ext cx="277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Var(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E(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1" lang="en-GB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) – µ</a:t>
            </a:r>
            <a:r>
              <a:rPr b="1" lang="en-GB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Rectangle 12"/>
          <p:cNvSpPr/>
          <p:nvPr/>
        </p:nvSpPr>
        <p:spPr>
          <a:xfrm>
            <a:off x="1500120" y="492804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841     –  (26.7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Rectangle 13"/>
          <p:cNvSpPr/>
          <p:nvPr/>
        </p:nvSpPr>
        <p:spPr>
          <a:xfrm>
            <a:off x="1501560" y="528696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128.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Rectangle 14"/>
          <p:cNvSpPr/>
          <p:nvPr/>
        </p:nvSpPr>
        <p:spPr>
          <a:xfrm>
            <a:off x="0" y="598356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            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5" name="Object 15"/>
          <p:cNvGraphicFramePr/>
          <p:nvPr/>
        </p:nvGraphicFramePr>
        <p:xfrm>
          <a:off x="2000160" y="5929200"/>
          <a:ext cx="108288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0160" y="5929200"/>
                    <a:ext cx="10828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7" name="Rectangle 16"/>
          <p:cNvSpPr/>
          <p:nvPr/>
        </p:nvSpPr>
        <p:spPr>
          <a:xfrm>
            <a:off x="3452760" y="4891680"/>
            <a:ext cx="20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8" name=""/>
          <p:cNvGraphicFramePr/>
          <p:nvPr/>
        </p:nvGraphicFramePr>
        <p:xfrm>
          <a:off x="539640" y="1341360"/>
          <a:ext cx="7504200" cy="914400"/>
        </p:xfrm>
        <a:graphic>
          <a:graphicData uri="http://schemas.openxmlformats.org/drawingml/2006/table">
            <a:tbl>
              <a:tblPr/>
              <a:tblGrid>
                <a:gridCol w="1500120"/>
                <a:gridCol w="1501920"/>
                <a:gridCol w="1500120"/>
                <a:gridCol w="1501920"/>
                <a:gridCol w="1500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9" name="Rectangle 37"/>
          <p:cNvSpPr/>
          <p:nvPr/>
        </p:nvSpPr>
        <p:spPr>
          <a:xfrm>
            <a:off x="1028520" y="2313360"/>
            <a:ext cx="75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10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0.18    +   20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0.32    +   30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0.15    +   40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0.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Rectangle 38"/>
          <p:cNvSpPr/>
          <p:nvPr/>
        </p:nvSpPr>
        <p:spPr>
          <a:xfrm>
            <a:off x="414000" y="325656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Rectangle 39"/>
          <p:cNvSpPr/>
          <p:nvPr/>
        </p:nvSpPr>
        <p:spPr>
          <a:xfrm>
            <a:off x="1500120" y="63997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1.32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o 4SF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Text Box 40"/>
          <p:cNvSpPr/>
          <p:nvPr/>
        </p:nvSpPr>
        <p:spPr>
          <a:xfrm>
            <a:off x="6588000" y="231156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Calculate E[</a:t>
            </a:r>
            <a:r>
              <a:rPr b="1" i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]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Text Box 41"/>
          <p:cNvSpPr/>
          <p:nvPr/>
        </p:nvSpPr>
        <p:spPr>
          <a:xfrm>
            <a:off x="6516720" y="3254400"/>
            <a:ext cx="28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Calculate E[</a:t>
            </a:r>
            <a:r>
              <a:rPr b="1" i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X</a:t>
            </a:r>
            <a:r>
              <a:rPr b="1" lang="en-US" sz="2400" spc="-1" strike="noStrike" baseline="30000">
                <a:solidFill>
                  <a:srgbClr val="0000ff"/>
                </a:solidFill>
                <a:latin typeface="Comic Sans MS"/>
                <a:ea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]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Rectangle 42"/>
          <p:cNvSpPr/>
          <p:nvPr/>
        </p:nvSpPr>
        <p:spPr>
          <a:xfrm>
            <a:off x="4643280" y="4573800"/>
            <a:ext cx="41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952560"/>
                <a:tab algn="r" pos="1492200"/>
                <a:tab algn="r" pos="2031840"/>
                <a:tab algn="r" pos="2546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Use VAR(</a:t>
            </a:r>
            <a:r>
              <a:rPr b="1" i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) = E(</a:t>
            </a:r>
            <a:r>
              <a:rPr b="1" i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X</a:t>
            </a:r>
            <a:r>
              <a:rPr b="1" lang="en-US" sz="2400" spc="-1" strike="noStrike" baseline="30000">
                <a:solidFill>
                  <a:srgbClr val="0000ff"/>
                </a:solidFill>
                <a:latin typeface="Comic Sans MS"/>
                <a:ea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) – µ</a:t>
            </a:r>
            <a:r>
              <a:rPr b="1" lang="en-US" sz="2400" spc="-1" strike="noStrike" baseline="30000">
                <a:solidFill>
                  <a:srgbClr val="0000ff"/>
                </a:solidFill>
                <a:latin typeface="Comic Sans MS"/>
                <a:ea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to calculate the varian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Rectangle 43"/>
          <p:cNvSpPr/>
          <p:nvPr/>
        </p:nvSpPr>
        <p:spPr>
          <a:xfrm>
            <a:off x="4984920" y="5841000"/>
            <a:ext cx="38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952560"/>
                <a:tab algn="r" pos="1492200"/>
                <a:tab algn="r" pos="2031840"/>
                <a:tab algn="r" pos="2546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Hence calculate SD(</a:t>
            </a:r>
            <a:r>
              <a:rPr b="1" i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44"/>
          <p:cNvSpPr/>
          <p:nvPr/>
        </p:nvSpPr>
        <p:spPr>
          <a:xfrm>
            <a:off x="6896160" y="6400800"/>
            <a:ext cx="59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Text Box 45"/>
          <p:cNvSpPr/>
          <p:nvPr/>
        </p:nvSpPr>
        <p:spPr>
          <a:xfrm>
            <a:off x="571680" y="214200"/>
            <a:ext cx="7286400" cy="124524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9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Do NuLake pg. 158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161 (Q164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176).  Finish for HW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8" name="Object 46"/>
              <p:cNvSpPr txBox="1"/>
              <p:nvPr/>
            </p:nvSpPr>
            <p:spPr>
              <a:xfrm>
                <a:off x="571680" y="5929200"/>
                <a:ext cx="12063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19" name="Text Box 46"/>
          <p:cNvSpPr/>
          <p:nvPr/>
        </p:nvSpPr>
        <p:spPr>
          <a:xfrm>
            <a:off x="2357280" y="2786040"/>
            <a:ext cx="5870880" cy="76464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NZ" sz="2000" spc="-1" strike="noStrike" u="sng">
                <a:solidFill>
                  <a:srgbClr val="ff3300"/>
                </a:solidFill>
                <a:uFillTx/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ased on the above probability distribu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is </a:t>
            </a:r>
            <a:r>
              <a:rPr b="1" i="1" lang="el-GR" sz="2400" spc="-1" strike="noStrike">
                <a:solidFill>
                  <a:srgbClr val="ff3300"/>
                </a:solidFill>
                <a:latin typeface="Times New Roman"/>
              </a:rPr>
              <a:t>μ</a:t>
            </a:r>
            <a:r>
              <a:rPr b="0" lang="en-NZ" sz="18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1" lang="en-NZ" sz="2000" spc="-1" strike="noStrike">
                <a:solidFill>
                  <a:srgbClr val="ff3300"/>
                </a:solidFill>
                <a:latin typeface="Comic Sans MS"/>
              </a:rPr>
              <a:t>26.7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Text Box 47"/>
          <p:cNvSpPr/>
          <p:nvPr/>
        </p:nvSpPr>
        <p:spPr>
          <a:xfrm>
            <a:off x="428760" y="5786280"/>
            <a:ext cx="6913440" cy="70380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NZ" sz="2000" spc="-1" strike="noStrike" u="sng">
                <a:solidFill>
                  <a:srgbClr val="ff3300"/>
                </a:solidFill>
                <a:uFillTx/>
                <a:latin typeface="Comic Sans MS"/>
              </a:rPr>
              <a:t>vari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ased on the above probability distribu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is  </a:t>
            </a:r>
            <a:r>
              <a:rPr b="1" lang="en-NZ" sz="2000" spc="-1" strike="noStrike">
                <a:solidFill>
                  <a:srgbClr val="ff3300"/>
                </a:solidFill>
                <a:latin typeface="Comic Sans MS"/>
              </a:rPr>
              <a:t>128.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Text Box 51"/>
          <p:cNvSpPr/>
          <p:nvPr/>
        </p:nvSpPr>
        <p:spPr>
          <a:xfrm>
            <a:off x="3851280" y="5454720"/>
            <a:ext cx="5292720" cy="128916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NZ" sz="2000" spc="-1" strike="noStrike" u="sng">
                <a:solidFill>
                  <a:srgbClr val="ff3300"/>
                </a:solidFill>
                <a:uFillTx/>
                <a:latin typeface="Comic Sans MS"/>
              </a:rPr>
              <a:t>standard devia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ased on the above probability distribu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3300"/>
                </a:solidFill>
                <a:latin typeface="Arial"/>
                <a:ea typeface="Arial"/>
              </a:rPr>
              <a:t>σ</a:t>
            </a:r>
            <a:r>
              <a:rPr b="0" lang="en-NZ" sz="18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1" lang="en-NZ" sz="2000" spc="-1" strike="noStrike">
                <a:solidFill>
                  <a:srgbClr val="ff3300"/>
                </a:solidFill>
                <a:latin typeface="Comic Sans MS"/>
              </a:rPr>
              <a:t>11.32 (to 4 S.F.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571680" y="609120"/>
            <a:ext cx="8215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Times New Roman"/>
              </a:rPr>
              <a:t>LESSON 3 – Calculate the </a:t>
            </a:r>
            <a:r>
              <a:rPr b="0" i="1" lang="en-NZ" sz="3600" spc="-1" strike="noStrike">
                <a:solidFill>
                  <a:srgbClr val="000000"/>
                </a:solidFill>
                <a:latin typeface="Times New Roman"/>
              </a:rPr>
              <a:t>Variance</a:t>
            </a:r>
            <a:r>
              <a:rPr b="0" lang="en-NZ" sz="3600" spc="-1" strike="noStrike">
                <a:solidFill>
                  <a:srgbClr val="000000"/>
                </a:solidFill>
                <a:latin typeface="Times New Roman"/>
              </a:rPr>
              <a:t> from a prob. distn.table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250560" y="1844640"/>
            <a:ext cx="8893080" cy="501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oint of today – practice!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Get confident at calculating the 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</a:rPr>
              <a:t>variance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from a probability distribution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Any Qs from the HW – NuLake – pg. 158</a:t>
            </a:r>
            <a:r>
              <a:rPr b="0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16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Another e.g. on board (following slides) for those needing it (others carry 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Do Sigma:  pg. 33 (Ex. 2.5) in old, or pg. 135 (Ex. 7.05) in new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MUST do Q 1 &amp; 2, 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</a:rPr>
              <a:t>(* 3</a:t>
            </a:r>
            <a:r>
              <a:rPr b="0" i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</a:rPr>
              <a:t>5 are optional as extension)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Then on to next exercise (2.6 in old / 7.06 in new): Do all.  Complete for H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 u="sng">
                <a:solidFill>
                  <a:srgbClr val="000000"/>
                </a:solidFill>
                <a:uFillTx/>
                <a:latin typeface="Comic Sans MS"/>
              </a:rPr>
              <a:t>Vari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820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The average of the squared distances from the mean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Var(X)     =  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Var(X) </a:t>
            </a:r>
            <a:r>
              <a:rPr b="1" i="1" lang="en-NZ" sz="24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E[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(X – </a:t>
            </a:r>
            <a:r>
              <a:rPr b="1" i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This can be re-arranged to 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Text Box 4"/>
          <p:cNvSpPr/>
          <p:nvPr/>
        </p:nvSpPr>
        <p:spPr>
          <a:xfrm>
            <a:off x="5003640" y="3500280"/>
            <a:ext cx="3961080" cy="10087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The same as saying the “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Expected”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squared distance from the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population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mea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Rectangle 5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8" name="Object 6"/>
              <p:cNvSpPr txBox="1"/>
              <p:nvPr/>
            </p:nvSpPr>
            <p:spPr>
              <a:xfrm>
                <a:off x="2771640" y="2133720"/>
                <a:ext cx="216072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9" name="Text Box 7"/>
          <p:cNvSpPr/>
          <p:nvPr/>
        </p:nvSpPr>
        <p:spPr>
          <a:xfrm>
            <a:off x="250920" y="5445000"/>
            <a:ext cx="8424720" cy="108072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38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Var(X)    =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   E(X</a:t>
            </a:r>
            <a:r>
              <a:rPr b="1" lang="en-NZ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   –    </a:t>
            </a:r>
            <a:r>
              <a:rPr b="1" i="1" lang="el-GR" sz="4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NZ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36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 u="sng">
                <a:solidFill>
                  <a:srgbClr val="000000"/>
                </a:solidFill>
                <a:uFillTx/>
                <a:latin typeface="Comic Sans MS"/>
              </a:rPr>
              <a:t>Vari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820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The average of the squared distances from the mean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Var(X)     =  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Var(X) </a:t>
            </a:r>
            <a:r>
              <a:rPr b="1" i="1" lang="en-NZ" sz="24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E[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(X – </a:t>
            </a:r>
            <a:r>
              <a:rPr b="1" i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This can be re-arranged to 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Text Box 4"/>
          <p:cNvSpPr/>
          <p:nvPr/>
        </p:nvSpPr>
        <p:spPr>
          <a:xfrm>
            <a:off x="5003640" y="3500280"/>
            <a:ext cx="3961080" cy="10087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The same as saying the “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Expected”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squared distance from the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population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mea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Rectangle 5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4" name="Object 6"/>
              <p:cNvSpPr txBox="1"/>
              <p:nvPr/>
            </p:nvSpPr>
            <p:spPr>
              <a:xfrm>
                <a:off x="2771640" y="2133720"/>
                <a:ext cx="216072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5" name="Text Box 7"/>
          <p:cNvSpPr/>
          <p:nvPr/>
        </p:nvSpPr>
        <p:spPr>
          <a:xfrm>
            <a:off x="250920" y="5445000"/>
            <a:ext cx="8424720" cy="99864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38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Var(X)    =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   E(X</a:t>
            </a:r>
            <a:r>
              <a:rPr b="1" lang="en-NZ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   –   </a:t>
            </a: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E(X)</a:t>
            </a: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1" lang="en-NZ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36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53"/>
          <p:cNvSpPr/>
          <p:nvPr/>
        </p:nvSpPr>
        <p:spPr>
          <a:xfrm>
            <a:off x="1571760" y="3643200"/>
            <a:ext cx="720720" cy="395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Rectangle 52"/>
          <p:cNvSpPr/>
          <p:nvPr/>
        </p:nvSpPr>
        <p:spPr>
          <a:xfrm>
            <a:off x="1860480" y="5504040"/>
            <a:ext cx="1224000" cy="395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Rectangle 2"/>
          <p:cNvSpPr/>
          <p:nvPr/>
        </p:nvSpPr>
        <p:spPr>
          <a:xfrm>
            <a:off x="0" y="0"/>
            <a:ext cx="9144000" cy="22766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Rectangle 4"/>
          <p:cNvSpPr/>
          <p:nvPr/>
        </p:nvSpPr>
        <p:spPr>
          <a:xfrm>
            <a:off x="1928880" y="6462720"/>
            <a:ext cx="1782720" cy="395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Rectangle 5"/>
          <p:cNvSpPr/>
          <p:nvPr/>
        </p:nvSpPr>
        <p:spPr>
          <a:xfrm>
            <a:off x="1088640" y="9000"/>
            <a:ext cx="629352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952560"/>
                <a:tab algn="r" pos="1492200"/>
                <a:tab algn="r" pos="2031840"/>
                <a:tab algn="r" pos="2546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Arial"/>
              </a:rPr>
              <a:t>For the probability distribution table below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952560"/>
                <a:tab algn="r" pos="1492200"/>
                <a:tab algn="r" pos="2031840"/>
                <a:tab algn="r" pos="2546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Arial"/>
              </a:rPr>
              <a:t>1.) Calculate the mean E(X)  = 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952560"/>
                <a:tab algn="r" pos="1492200"/>
                <a:tab algn="r" pos="2031840"/>
                <a:tab algn="r" pos="2546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Arial"/>
              </a:rPr>
              <a:t>2.)  Calculate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952560"/>
                <a:tab algn="r" pos="1492200"/>
                <a:tab algn="r" pos="2031840"/>
                <a:tab algn="r" pos="2546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Arial"/>
              </a:rPr>
              <a:t>3.) Calculate  E(X</a:t>
            </a:r>
            <a:r>
              <a:rPr b="0" lang="en-US" sz="19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Arial"/>
              </a:rPr>
              <a:t>)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952560"/>
                <a:tab algn="r" pos="1492200"/>
                <a:tab algn="r" pos="2031840"/>
                <a:tab algn="r" pos="2546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Arial"/>
              </a:rPr>
              <a:t>4.)  Explain in your own words why E(X</a:t>
            </a:r>
            <a:r>
              <a:rPr b="0" lang="en-US" sz="19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Arial"/>
              </a:rPr>
              <a:t>) ≠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952560"/>
                <a:tab algn="r" pos="1492200"/>
                <a:tab algn="r" pos="2031840"/>
                <a:tab algn="r" pos="2546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Arial"/>
              </a:rPr>
              <a:t>5.) Use the formula VAR(</a:t>
            </a:r>
            <a:r>
              <a:rPr b="0" i="1" lang="en-US" sz="19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Arial"/>
              </a:rPr>
              <a:t>) = E(</a:t>
            </a:r>
            <a:r>
              <a:rPr b="0" i="1" lang="en-US" sz="19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en-US" sz="19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Arial"/>
              </a:rPr>
              <a:t>) – µ </a:t>
            </a:r>
            <a:r>
              <a:rPr b="0" lang="en-US" sz="19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Arial"/>
              </a:rPr>
              <a:t>      to calculate the variance &amp; standard deviation of X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Rectangle 6"/>
          <p:cNvSpPr/>
          <p:nvPr/>
        </p:nvSpPr>
        <p:spPr>
          <a:xfrm>
            <a:off x="0" y="3170880"/>
            <a:ext cx="13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E(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Rectangle 7"/>
          <p:cNvSpPr/>
          <p:nvPr/>
        </p:nvSpPr>
        <p:spPr>
          <a:xfrm>
            <a:off x="1173600" y="356256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9040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7.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Rectangle 8"/>
          <p:cNvSpPr/>
          <p:nvPr/>
        </p:nvSpPr>
        <p:spPr>
          <a:xfrm>
            <a:off x="1174680" y="4042080"/>
            <a:ext cx="768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0.2     +    7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0.4     +    8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0.3     +   1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0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Rectangle 10"/>
          <p:cNvSpPr/>
          <p:nvPr/>
        </p:nvSpPr>
        <p:spPr>
          <a:xfrm>
            <a:off x="1219680" y="450072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63.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Rectangle 11"/>
          <p:cNvSpPr/>
          <p:nvPr/>
        </p:nvSpPr>
        <p:spPr>
          <a:xfrm>
            <a:off x="604440" y="4812480"/>
            <a:ext cx="27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Var(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E(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1" lang="en-GB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) –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µ</a:t>
            </a:r>
            <a:r>
              <a:rPr b="1" lang="en-GB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Rectangle 12"/>
          <p:cNvSpPr/>
          <p:nvPr/>
        </p:nvSpPr>
        <p:spPr>
          <a:xfrm>
            <a:off x="1500120" y="514368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63.4    –    7.6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Rectangle 13"/>
          <p:cNvSpPr/>
          <p:nvPr/>
        </p:nvSpPr>
        <p:spPr>
          <a:xfrm>
            <a:off x="1500120" y="55029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.6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Rectangle 16"/>
          <p:cNvSpPr/>
          <p:nvPr/>
        </p:nvSpPr>
        <p:spPr>
          <a:xfrm>
            <a:off x="3452760" y="5220360"/>
            <a:ext cx="20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9" name=""/>
          <p:cNvGraphicFramePr/>
          <p:nvPr/>
        </p:nvGraphicFramePr>
        <p:xfrm>
          <a:off x="1000080" y="2214720"/>
          <a:ext cx="7504200" cy="914400"/>
        </p:xfrm>
        <a:graphic>
          <a:graphicData uri="http://schemas.openxmlformats.org/drawingml/2006/table">
            <a:tbl>
              <a:tblPr/>
              <a:tblGrid>
                <a:gridCol w="1500120"/>
                <a:gridCol w="1501920"/>
                <a:gridCol w="1500120"/>
                <a:gridCol w="1501920"/>
                <a:gridCol w="1500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50" name="Rectangle 37"/>
          <p:cNvSpPr/>
          <p:nvPr/>
        </p:nvSpPr>
        <p:spPr>
          <a:xfrm>
            <a:off x="1091160" y="3143520"/>
            <a:ext cx="61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5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0.2   +  7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0.4   +  8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0.3   +  14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0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38"/>
          <p:cNvSpPr/>
          <p:nvPr/>
        </p:nvSpPr>
        <p:spPr>
          <a:xfrm>
            <a:off x="383760" y="4042440"/>
            <a:ext cx="8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E(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1" lang="en-GB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Rectangle 39"/>
          <p:cNvSpPr/>
          <p:nvPr/>
        </p:nvSpPr>
        <p:spPr>
          <a:xfrm>
            <a:off x="1643040" y="6399720"/>
            <a:ext cx="24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.375 (4 S.F.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Text Box 40"/>
          <p:cNvSpPr/>
          <p:nvPr/>
        </p:nvSpPr>
        <p:spPr>
          <a:xfrm>
            <a:off x="7088040" y="3214800"/>
            <a:ext cx="20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Calculate E[</a:t>
            </a:r>
            <a:r>
              <a:rPr b="1" i="1" lang="en-US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X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]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Text Box 41"/>
          <p:cNvSpPr/>
          <p:nvPr/>
        </p:nvSpPr>
        <p:spPr>
          <a:xfrm>
            <a:off x="357120" y="407196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Now Calculate E[</a:t>
            </a:r>
            <a:r>
              <a:rPr b="1" i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X</a:t>
            </a:r>
            <a:r>
              <a:rPr b="1" lang="en-US" sz="2400" spc="-1" strike="noStrike" baseline="30000">
                <a:solidFill>
                  <a:srgbClr val="0000ff"/>
                </a:solidFill>
                <a:latin typeface="Comic Sans MS"/>
                <a:ea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]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Rectangle 42"/>
          <p:cNvSpPr/>
          <p:nvPr/>
        </p:nvSpPr>
        <p:spPr>
          <a:xfrm>
            <a:off x="4643280" y="4872600"/>
            <a:ext cx="4173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952560"/>
                <a:tab algn="r" pos="1492200"/>
                <a:tab algn="r" pos="2031840"/>
                <a:tab algn="r" pos="2546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Use VAR(</a:t>
            </a:r>
            <a:r>
              <a:rPr b="1" i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) = E(</a:t>
            </a:r>
            <a:r>
              <a:rPr b="1" i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X</a:t>
            </a:r>
            <a:r>
              <a:rPr b="1" lang="en-US" sz="2400" spc="-1" strike="noStrike" baseline="30000">
                <a:solidFill>
                  <a:srgbClr val="0000ff"/>
                </a:solidFill>
                <a:latin typeface="Comic Sans MS"/>
                <a:ea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) –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µ</a:t>
            </a:r>
            <a:r>
              <a:rPr b="1" lang="en-US" sz="2400" spc="-1" strike="noStrike" baseline="30000">
                <a:solidFill>
                  <a:srgbClr val="0000ff"/>
                </a:solidFill>
                <a:latin typeface="Comic Sans MS"/>
                <a:ea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to calculate the varian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Rectangle 43"/>
          <p:cNvSpPr/>
          <p:nvPr/>
        </p:nvSpPr>
        <p:spPr>
          <a:xfrm>
            <a:off x="4984920" y="5956920"/>
            <a:ext cx="4159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952560"/>
                <a:tab algn="r" pos="1492200"/>
                <a:tab algn="r" pos="2031840"/>
                <a:tab algn="r" pos="2546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Now calculate </a:t>
            </a:r>
            <a:r>
              <a:rPr b="1" i="1" lang="el-GR" sz="2800" spc="-1" strike="noStrike">
                <a:solidFill>
                  <a:srgbClr val="0000ff"/>
                </a:solidFill>
                <a:latin typeface="Comic Sans MS"/>
                <a:ea typeface="Arial"/>
              </a:rPr>
              <a:t>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952560"/>
                <a:tab algn="r" pos="1492200"/>
                <a:tab algn="r" pos="2031840"/>
                <a:tab algn="r" pos="2546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(the Standard Devi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Rectangle 44"/>
          <p:cNvSpPr/>
          <p:nvPr/>
        </p:nvSpPr>
        <p:spPr>
          <a:xfrm>
            <a:off x="6896160" y="6729480"/>
            <a:ext cx="59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Text Box 47"/>
          <p:cNvSpPr/>
          <p:nvPr/>
        </p:nvSpPr>
        <p:spPr>
          <a:xfrm>
            <a:off x="357120" y="4071960"/>
            <a:ext cx="6913800" cy="76464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NZ" sz="2000" spc="-1" strike="noStrike" u="sng">
                <a:solidFill>
                  <a:srgbClr val="ff3300"/>
                </a:solidFill>
                <a:uFillTx/>
                <a:latin typeface="Comic Sans MS"/>
              </a:rPr>
              <a:t>vari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ased on the above probability distribu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is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  <a:ea typeface="Arial"/>
              </a:rPr>
              <a:t>σ</a:t>
            </a:r>
            <a:r>
              <a:rPr b="1" lang="en-NZ" sz="18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2</a:t>
            </a:r>
            <a:r>
              <a:rPr b="0" lang="en-NZ" sz="18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1" lang="en-NZ" sz="2000" spc="-1" strike="noStrike">
                <a:solidFill>
                  <a:srgbClr val="ff3300"/>
                </a:solidFill>
                <a:latin typeface="Comic Sans MS"/>
              </a:rPr>
              <a:t>5.6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9" name="Object 49"/>
              <p:cNvSpPr txBox="1"/>
              <p:nvPr/>
            </p:nvSpPr>
            <p:spPr>
              <a:xfrm>
                <a:off x="0" y="6012000"/>
                <a:ext cx="19764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0" name="Object 50"/>
              <p:cNvSpPr txBox="1"/>
              <p:nvPr/>
            </p:nvSpPr>
            <p:spPr>
              <a:xfrm>
                <a:off x="2163600" y="6000840"/>
                <a:ext cx="8258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61" name="Text Box 51"/>
          <p:cNvSpPr/>
          <p:nvPr/>
        </p:nvSpPr>
        <p:spPr>
          <a:xfrm>
            <a:off x="3851280" y="5454720"/>
            <a:ext cx="5292720" cy="128916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NZ" sz="2000" spc="-1" strike="noStrike" u="sng">
                <a:solidFill>
                  <a:srgbClr val="ff3300"/>
                </a:solidFill>
                <a:uFillTx/>
                <a:latin typeface="Comic Sans MS"/>
              </a:rPr>
              <a:t>standard devia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ased on the above probability distribu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3300"/>
                </a:solidFill>
                <a:latin typeface="Arial"/>
                <a:ea typeface="Arial"/>
              </a:rPr>
              <a:t>σ</a:t>
            </a:r>
            <a:r>
              <a:rPr b="0" lang="en-NZ" sz="18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1" lang="en-NZ" sz="2000" spc="-1" strike="noStrike">
                <a:solidFill>
                  <a:srgbClr val="ff3300"/>
                </a:solidFill>
                <a:latin typeface="Comic Sans MS"/>
              </a:rPr>
              <a:t>2.375 (4 S.F.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Text Box 46"/>
          <p:cNvSpPr/>
          <p:nvPr/>
        </p:nvSpPr>
        <p:spPr>
          <a:xfrm>
            <a:off x="2411280" y="3181320"/>
            <a:ext cx="6375600" cy="82548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NZ" sz="2000" spc="-1" strike="noStrike" u="sng">
                <a:solidFill>
                  <a:srgbClr val="ff3300"/>
                </a:solidFill>
                <a:uFillTx/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ased on the above probability distribu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is </a:t>
            </a:r>
            <a:r>
              <a:rPr b="1" i="1" lang="el-GR" sz="2400" spc="-1" strike="noStrike">
                <a:solidFill>
                  <a:srgbClr val="ff3300"/>
                </a:solidFill>
                <a:latin typeface="Times New Roman"/>
              </a:rPr>
              <a:t>μ</a:t>
            </a:r>
            <a:r>
              <a:rPr b="0" lang="en-NZ" sz="18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1" lang="en-NZ" sz="2000" spc="-1" strike="noStrike">
                <a:solidFill>
                  <a:srgbClr val="ff3300"/>
                </a:solidFill>
                <a:latin typeface="Comic Sans MS"/>
              </a:rPr>
              <a:t>7.6.  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So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i="1" lang="en-N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7.6</a:t>
            </a:r>
            <a:r>
              <a:rPr b="1" lang="en-NZ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____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Text Box 45"/>
          <p:cNvSpPr/>
          <p:nvPr/>
        </p:nvSpPr>
        <p:spPr>
          <a:xfrm>
            <a:off x="642960" y="214200"/>
            <a:ext cx="8215200" cy="319320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Finish NuLake pages 158</a:t>
            </a:r>
            <a:r>
              <a:rPr b="0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161 (ask for help with any you’re stuck on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Do Sigma (old) pg. 33 – Ex. 2.5 – JUST Q1 &amp; 2. </a:t>
            </a: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(* Q3</a:t>
            </a:r>
            <a:r>
              <a:rPr b="0" i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5 are optional as extension)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Then on to Ex. 2.6 (pg. 34).  Finish for HW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/>
          </p:nvPr>
        </p:nvSpPr>
        <p:spPr>
          <a:xfrm>
            <a:off x="0" y="428400"/>
            <a:ext cx="9144000" cy="642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542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Comic Sans MS"/>
              </a:rPr>
              <a:t>Variance formula proof using Expec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Link between the 2 variance formulas: 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Prove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that 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Left hand side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NZ" sz="1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NZ" sz="1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NZ" sz="1800" spc="-1" strike="noStrike">
                <a:solidFill>
                  <a:srgbClr val="0000ff"/>
                </a:solidFill>
                <a:latin typeface="Comic Sans MS"/>
              </a:rPr>
              <a:t>=   Right hand side    </a:t>
            </a:r>
            <a:r>
              <a:rPr b="1" lang="en-NZ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</a:t>
            </a:r>
            <a:r>
              <a:rPr b="1" lang="en-NZ" sz="1800" spc="-1" strike="noStrike">
                <a:solidFill>
                  <a:srgbClr val="0000ff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Rectangle 4"/>
          <p:cNvSpPr/>
          <p:nvPr/>
        </p:nvSpPr>
        <p:spPr>
          <a:xfrm>
            <a:off x="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6" name="Object 5"/>
              <p:cNvSpPr txBox="1"/>
              <p:nvPr/>
            </p:nvSpPr>
            <p:spPr>
              <a:xfrm>
                <a:off x="5546880" y="711360"/>
                <a:ext cx="128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μ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7" name="Object 7"/>
              <p:cNvSpPr txBox="1"/>
              <p:nvPr/>
            </p:nvSpPr>
            <p:spPr>
              <a:xfrm>
                <a:off x="7143840" y="714240"/>
                <a:ext cx="1809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8" name="Object 4"/>
              <p:cNvSpPr txBox="1"/>
              <p:nvPr/>
            </p:nvSpPr>
            <p:spPr>
              <a:xfrm>
                <a:off x="2286000" y="1577880"/>
                <a:ext cx="10461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μ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9" name="Object 6"/>
              <p:cNvSpPr txBox="1"/>
              <p:nvPr/>
            </p:nvSpPr>
            <p:spPr>
              <a:xfrm>
                <a:off x="2214720" y="2428920"/>
                <a:ext cx="18763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μ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0" name="Object 6"/>
              <p:cNvSpPr txBox="1"/>
              <p:nvPr/>
            </p:nvSpPr>
            <p:spPr>
              <a:xfrm>
                <a:off x="2122560" y="3071880"/>
                <a:ext cx="27144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μ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1" name="Straight Connector 13"/>
          <p:cNvSpPr/>
          <p:nvPr/>
        </p:nvSpPr>
        <p:spPr>
          <a:xfrm>
            <a:off x="0" y="13572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2" name="Object 12"/>
              <p:cNvSpPr txBox="1"/>
              <p:nvPr/>
            </p:nvSpPr>
            <p:spPr>
              <a:xfrm>
                <a:off x="2266920" y="3714840"/>
                <a:ext cx="23716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μ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73" name="TextBox 15"/>
          <p:cNvSpPr/>
          <p:nvPr/>
        </p:nvSpPr>
        <p:spPr>
          <a:xfrm>
            <a:off x="4786200" y="3643200"/>
            <a:ext cx="3857760" cy="61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ince E(</a:t>
            </a:r>
            <a:r>
              <a:rPr b="1" i="1" lang="en-N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i="1" lang="en-NZ" sz="1800" spc="-1" strike="noStrike">
                <a:solidFill>
                  <a:srgbClr val="000000"/>
                </a:solidFill>
                <a:latin typeface="Symbol"/>
                <a:ea typeface="Symbol"/>
              </a:rPr>
              <a:t></a:t>
            </a: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i.e. the expected value of the mean </a:t>
            </a:r>
            <a:r>
              <a:rPr b="1" i="1" lang="en-NZ" sz="1600" spc="-1" strike="noStrike">
                <a:solidFill>
                  <a:srgbClr val="000000"/>
                </a:solidFill>
                <a:latin typeface="Comic Sans MS"/>
              </a:rPr>
              <a:t>is</a:t>
            </a: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 the mea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4" name="Object 13"/>
              <p:cNvSpPr txBox="1"/>
              <p:nvPr/>
            </p:nvSpPr>
            <p:spPr>
              <a:xfrm>
                <a:off x="2286000" y="4714920"/>
                <a:ext cx="19000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75" name="TextBox 17"/>
          <p:cNvSpPr/>
          <p:nvPr/>
        </p:nvSpPr>
        <p:spPr>
          <a:xfrm>
            <a:off x="4572000" y="4714920"/>
            <a:ext cx="19288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ince E(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i="1" lang="en-N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6" name="Object 14"/>
              <p:cNvSpPr txBox="1"/>
              <p:nvPr/>
            </p:nvSpPr>
            <p:spPr>
              <a:xfrm>
                <a:off x="2357280" y="5572080"/>
                <a:ext cx="12589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571680" y="609120"/>
            <a:ext cx="8215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LESSON 4 – Variance of a </a:t>
            </a:r>
            <a:r>
              <a:rPr b="0" i="1" lang="en-NZ" sz="4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 of a vari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 txBox="1"/>
          <p:nvPr/>
        </p:nvSpPr>
        <p:spPr>
          <a:xfrm>
            <a:off x="428400" y="1980720"/>
            <a:ext cx="871524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oint of tod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How to calculate the variance (and standard deviation) of a 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of a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Notes &amp; examp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Do NuLake pg. 164 &amp; 16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Sigma (old – 2</a:t>
            </a:r>
            <a:r>
              <a:rPr b="0" lang="en-NZ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 edition) – pg. 36: Ex. 2.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Linear Functions of Random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569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ometimes we deal with random variables whose behaviour is modelled by a linear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Y = </a:t>
            </a:r>
            <a:r>
              <a:rPr b="1" lang="en-NZ" sz="24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+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(like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y  = mx +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E.g. A taxi service charges </a:t>
            </a:r>
            <a:r>
              <a:rPr b="1" lang="en-NZ" sz="2400" spc="-1" strike="noStrike">
                <a:solidFill>
                  <a:srgbClr val="ff3300"/>
                </a:solidFill>
                <a:latin typeface="Comic Sans MS"/>
              </a:rPr>
              <a:t>$3 per kilometer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ravelled plus a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flat fee of $5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f the distance,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 required for the next job is a random variable, then the price,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 is given by 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NZ" sz="2400" spc="-1" strike="noStrike">
                <a:solidFill>
                  <a:srgbClr val="ff3300"/>
                </a:solidFill>
                <a:latin typeface="Comic Sans MS"/>
              </a:rPr>
              <a:t>3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ts mean is given by     E(</a:t>
            </a:r>
            <a:r>
              <a:rPr b="1" lang="en-NZ" sz="2400" spc="-1" strike="noStrike">
                <a:solidFill>
                  <a:srgbClr val="ff3300"/>
                </a:solidFill>
                <a:latin typeface="Comic Sans MS"/>
              </a:rPr>
              <a:t>3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 + 5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)   =    </a:t>
            </a:r>
            <a:r>
              <a:rPr b="1" lang="en-NZ" sz="2400" spc="-1" strike="noStrike">
                <a:solidFill>
                  <a:srgbClr val="ff3300"/>
                </a:solidFill>
                <a:latin typeface="Comic Sans MS"/>
              </a:rPr>
              <a:t>3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×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  +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Linear Functions of Random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569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ometimes we deal with random variables whose behaviour is modelled by a linear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Y = </a:t>
            </a:r>
            <a:r>
              <a:rPr b="1" lang="en-NZ" sz="24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+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E.g. A taxi service charges </a:t>
            </a:r>
            <a:r>
              <a:rPr b="1" lang="en-NZ" sz="2400" spc="-1" strike="noStrike">
                <a:solidFill>
                  <a:srgbClr val="ff3300"/>
                </a:solidFill>
                <a:latin typeface="Comic Sans MS"/>
              </a:rPr>
              <a:t>$3 per kilometer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ravelled plus a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flat fee of $5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f the distance,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 required for the next job is a random variable, then the price,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 is given by 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NZ" sz="2400" spc="-1" strike="noStrike">
                <a:solidFill>
                  <a:srgbClr val="ff3300"/>
                </a:solidFill>
                <a:latin typeface="Comic Sans MS"/>
              </a:rPr>
              <a:t>3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ts mean is given by     E(</a:t>
            </a:r>
            <a:r>
              <a:rPr b="1" lang="en-NZ" sz="2400" spc="-1" strike="noStrike">
                <a:solidFill>
                  <a:srgbClr val="ff3300"/>
                </a:solidFill>
                <a:latin typeface="Comic Sans MS"/>
              </a:rPr>
              <a:t>3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 + 5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)   =    </a:t>
            </a:r>
            <a:r>
              <a:rPr b="1" lang="en-NZ" sz="2400" spc="-1" strike="noStrike">
                <a:solidFill>
                  <a:srgbClr val="ff3300"/>
                </a:solidFill>
                <a:latin typeface="Comic Sans MS"/>
              </a:rPr>
              <a:t>3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×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 +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s variance,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Var(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+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=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s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td. deviation,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i="1" lang="el-GR" sz="2800" spc="-1" strike="noStrike">
                <a:solidFill>
                  <a:srgbClr val="000000"/>
                </a:solidFill>
                <a:latin typeface="Comic Sans MS"/>
              </a:rPr>
              <a:t>σ</a:t>
            </a:r>
            <a:r>
              <a:rPr b="1" lang="en-NZ" sz="24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0" i="1" lang="en-NZ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2400" spc="-1" strike="noStrike" baseline="-25000">
                <a:solidFill>
                  <a:srgbClr val="0000ff"/>
                </a:solidFill>
                <a:latin typeface="Comic Sans MS"/>
              </a:rPr>
              <a:t>+5 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3" name="Object 4"/>
              <p:cNvSpPr txBox="1"/>
              <p:nvPr/>
            </p:nvSpPr>
            <p:spPr>
              <a:xfrm>
                <a:off x="5778360" y="6249960"/>
                <a:ext cx="16592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84" name="Text Box 5"/>
          <p:cNvSpPr/>
          <p:nvPr/>
        </p:nvSpPr>
        <p:spPr>
          <a:xfrm>
            <a:off x="5796000" y="573408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3300"/>
                </a:solidFill>
                <a:latin typeface="Comic Sans MS"/>
              </a:rPr>
              <a:t>3</a:t>
            </a:r>
            <a:r>
              <a:rPr b="1" lang="en-NZ" sz="2400" spc="-1" strike="noStrike" baseline="30000">
                <a:solidFill>
                  <a:srgbClr val="ff33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×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8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ar Functions of Random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8930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E.g. A taxi service charges </a:t>
            </a:r>
            <a:r>
              <a:rPr b="1" lang="en-NZ" sz="1800" spc="-1" strike="noStrike">
                <a:solidFill>
                  <a:srgbClr val="ff3300"/>
                </a:solidFill>
                <a:latin typeface="Comic Sans MS"/>
              </a:rPr>
              <a:t>$3 per kilometer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travelled plus a </a:t>
            </a:r>
            <a:r>
              <a:rPr b="1" lang="en-NZ" sz="1800" spc="-1" strike="noStrike">
                <a:solidFill>
                  <a:srgbClr val="0000ff"/>
                </a:solidFill>
                <a:latin typeface="Comic Sans MS"/>
              </a:rPr>
              <a:t>flat fee of $5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If the distance, </a:t>
            </a:r>
            <a:r>
              <a:rPr b="0" i="1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, required for the next job is a random variable, then the price, </a:t>
            </a:r>
            <a:r>
              <a:rPr b="0" i="1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, is given by  </a:t>
            </a:r>
            <a:r>
              <a:rPr b="0" i="1" lang="en-NZ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en-NZ" sz="1800" spc="-1" strike="noStrike">
                <a:solidFill>
                  <a:srgbClr val="ff3300"/>
                </a:solidFill>
                <a:latin typeface="Comic Sans MS"/>
              </a:rPr>
              <a:t>3</a:t>
            </a:r>
            <a:r>
              <a:rPr b="0" i="1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1800" spc="-1" strike="noStrike">
                <a:solidFill>
                  <a:srgbClr val="0000ff"/>
                </a:solidFill>
                <a:latin typeface="Comic Sans MS"/>
              </a:rPr>
              <a:t>+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Its mean is given by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E(</a:t>
            </a:r>
            <a:r>
              <a:rPr b="1" lang="en-NZ" sz="1800" spc="-1" strike="noStrike">
                <a:solidFill>
                  <a:srgbClr val="ff3300"/>
                </a:solidFill>
                <a:latin typeface="Comic Sans MS"/>
              </a:rPr>
              <a:t>3</a:t>
            </a:r>
            <a:r>
              <a:rPr b="0" i="1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1800" spc="-1" strike="noStrike">
                <a:solidFill>
                  <a:srgbClr val="0000ff"/>
                </a:solidFill>
                <a:latin typeface="Comic Sans MS"/>
              </a:rPr>
              <a:t>+ 5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)   =  </a:t>
            </a:r>
            <a:r>
              <a:rPr b="0" lang="en-NZ" sz="1800" spc="-1" strike="noStrike">
                <a:solidFill>
                  <a:srgbClr val="ff3300"/>
                </a:solidFill>
                <a:latin typeface="Comic Sans MS"/>
              </a:rPr>
              <a:t>3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(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+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ts variance,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1" lang="en-US" sz="1800" spc="-1" strike="noStrike">
                <a:solidFill>
                  <a:srgbClr val="ff3300"/>
                </a:solidFill>
                <a:latin typeface="Comic Sans MS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+5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    =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ts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std. deviation,      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i="1" lang="el-GR" sz="2000" spc="-1" strike="noStrike">
                <a:solidFill>
                  <a:srgbClr val="000000"/>
                </a:solidFill>
                <a:latin typeface="Comic Sans MS"/>
              </a:rPr>
              <a:t>σ</a:t>
            </a:r>
            <a:r>
              <a:rPr b="1" lang="en-NZ" sz="18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0" i="1" lang="en-NZ" sz="1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1800" spc="-1" strike="noStrike" baseline="-25000">
                <a:solidFill>
                  <a:srgbClr val="0000ff"/>
                </a:solidFill>
                <a:latin typeface="Comic Sans MS"/>
              </a:rPr>
              <a:t>+5</a:t>
            </a:r>
            <a:r>
              <a:rPr b="0" lang="en-NZ" sz="1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=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RULES: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inear Function, Y, of a Random Variable,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7" name="Object 4"/>
              <p:cNvSpPr txBox="1"/>
              <p:nvPr/>
            </p:nvSpPr>
            <p:spPr>
              <a:xfrm>
                <a:off x="4830840" y="2421000"/>
                <a:ext cx="1280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88" name="Text Box 5"/>
          <p:cNvSpPr/>
          <p:nvPr/>
        </p:nvSpPr>
        <p:spPr>
          <a:xfrm>
            <a:off x="4643280" y="2060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en-NZ" sz="1800" spc="-1" strike="noStrike" baseline="30000">
                <a:solidFill>
                  <a:srgbClr val="ff33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×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0" i="1" lang="en-NZ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Text Box 12"/>
          <p:cNvSpPr/>
          <p:nvPr/>
        </p:nvSpPr>
        <p:spPr>
          <a:xfrm>
            <a:off x="3492360" y="3716280"/>
            <a:ext cx="237672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9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Y = </a:t>
            </a:r>
            <a:r>
              <a:rPr b="1" lang="en-NZ" sz="28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NZ" sz="2800" spc="-1" strike="noStrike">
                <a:solidFill>
                  <a:srgbClr val="0000ff"/>
                </a:solidFill>
                <a:latin typeface="Comic Sans MS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Text Box 13"/>
          <p:cNvSpPr/>
          <p:nvPr/>
        </p:nvSpPr>
        <p:spPr>
          <a:xfrm>
            <a:off x="611280" y="4581360"/>
            <a:ext cx="817560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mean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ff"/>
                </a:solidFill>
                <a:latin typeface="Comic Sans MS"/>
              </a:rPr>
              <a:t>+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a ×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2600" spc="-1" strike="noStrike">
                <a:solidFill>
                  <a:srgbClr val="0000ff"/>
                </a:solidFill>
                <a:latin typeface="Comic Sans MS"/>
              </a:rPr>
              <a:t>+ c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Text Box 14"/>
          <p:cNvSpPr/>
          <p:nvPr/>
        </p:nvSpPr>
        <p:spPr>
          <a:xfrm>
            <a:off x="611280" y="5373720"/>
            <a:ext cx="820872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variance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ff"/>
                </a:solidFill>
                <a:latin typeface="Comic Sans MS"/>
              </a:rPr>
              <a:t>+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n-US" sz="26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 ×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Text Box 15"/>
          <p:cNvSpPr/>
          <p:nvPr/>
        </p:nvSpPr>
        <p:spPr>
          <a:xfrm>
            <a:off x="611280" y="6122880"/>
            <a:ext cx="8532720" cy="7369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std. deviation </a:t>
            </a:r>
            <a:r>
              <a:rPr b="1" i="1" lang="el-GR" sz="2800" spc="-1" strike="noStrike">
                <a:solidFill>
                  <a:srgbClr val="000000"/>
                </a:solidFill>
                <a:latin typeface="Comic Sans MS"/>
              </a:rPr>
              <a:t>σ</a:t>
            </a:r>
            <a:r>
              <a:rPr b="1" lang="en-US" sz="26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 baseline="-25000">
                <a:solidFill>
                  <a:srgbClr val="0000ff"/>
                </a:solidFill>
                <a:latin typeface="Comic Sans MS"/>
              </a:rPr>
              <a:t>+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3" name="Object 9"/>
              <p:cNvSpPr txBox="1"/>
              <p:nvPr/>
            </p:nvSpPr>
            <p:spPr>
              <a:xfrm>
                <a:off x="6062760" y="6208560"/>
                <a:ext cx="17701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ar Functions of Random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-360" y="590040"/>
            <a:ext cx="8893080" cy="38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RULES: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inear Function, Y, of a Random Variable,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Text Box 12"/>
          <p:cNvSpPr/>
          <p:nvPr/>
        </p:nvSpPr>
        <p:spPr>
          <a:xfrm>
            <a:off x="3241800" y="1309680"/>
            <a:ext cx="237636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9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Y = </a:t>
            </a:r>
            <a:r>
              <a:rPr b="1" lang="en-NZ" sz="28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NZ" sz="2800" spc="-1" strike="noStrike">
                <a:solidFill>
                  <a:srgbClr val="0000ff"/>
                </a:solidFill>
                <a:latin typeface="Comic Sans MS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Text Box 13"/>
          <p:cNvSpPr/>
          <p:nvPr/>
        </p:nvSpPr>
        <p:spPr>
          <a:xfrm>
            <a:off x="360360" y="2174760"/>
            <a:ext cx="817560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mean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ff"/>
                </a:solidFill>
                <a:latin typeface="Comic Sans MS"/>
              </a:rPr>
              <a:t>+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a ×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2600" spc="-1" strike="noStrike">
                <a:solidFill>
                  <a:srgbClr val="0000ff"/>
                </a:solidFill>
                <a:latin typeface="Comic Sans MS"/>
              </a:rPr>
              <a:t>+ c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Text Box 14"/>
          <p:cNvSpPr/>
          <p:nvPr/>
        </p:nvSpPr>
        <p:spPr>
          <a:xfrm>
            <a:off x="360360" y="2967120"/>
            <a:ext cx="820908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variance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ff"/>
                </a:solidFill>
                <a:latin typeface="Comic Sans MS"/>
              </a:rPr>
              <a:t>+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n-US" sz="26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 ×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Text Box 15"/>
          <p:cNvSpPr/>
          <p:nvPr/>
        </p:nvSpPr>
        <p:spPr>
          <a:xfrm>
            <a:off x="360360" y="3716280"/>
            <a:ext cx="8532720" cy="7369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std. deviation </a:t>
            </a:r>
            <a:r>
              <a:rPr b="1" i="1" lang="el-GR" sz="2800" spc="-1" strike="noStrike">
                <a:solidFill>
                  <a:srgbClr val="000000"/>
                </a:solidFill>
                <a:latin typeface="Comic Sans MS"/>
              </a:rPr>
              <a:t>σ</a:t>
            </a:r>
            <a:r>
              <a:rPr b="1" lang="en-US" sz="26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 baseline="-25000">
                <a:solidFill>
                  <a:srgbClr val="0000ff"/>
                </a:solidFill>
                <a:latin typeface="Comic Sans MS"/>
              </a:rPr>
              <a:t>+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0" name="Object 9"/>
              <p:cNvSpPr txBox="1"/>
              <p:nvPr/>
            </p:nvSpPr>
            <p:spPr>
              <a:xfrm>
                <a:off x="5811840" y="3801960"/>
                <a:ext cx="17701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01" name="Rectangle 5"/>
          <p:cNvSpPr/>
          <p:nvPr/>
        </p:nvSpPr>
        <p:spPr>
          <a:xfrm>
            <a:off x="4680" y="4645080"/>
            <a:ext cx="9144000" cy="18795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Rectangle 7"/>
          <p:cNvSpPr/>
          <p:nvPr/>
        </p:nvSpPr>
        <p:spPr>
          <a:xfrm>
            <a:off x="-28440" y="4654080"/>
            <a:ext cx="9172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The taxi service needs to estimate its earnings per job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Calculate the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vari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standard deviation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of the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amount charged for one jo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if the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mean dist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for a job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8km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with 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variance of 6.25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ar Functions of Random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-360" y="590040"/>
            <a:ext cx="8893080" cy="38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RULES: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inear Function, Y, of a Random Variable,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Text Box 12"/>
          <p:cNvSpPr/>
          <p:nvPr/>
        </p:nvSpPr>
        <p:spPr>
          <a:xfrm>
            <a:off x="3241800" y="1309680"/>
            <a:ext cx="237636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9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Y = </a:t>
            </a:r>
            <a:r>
              <a:rPr b="1" lang="en-NZ" sz="28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NZ" sz="2800" spc="-1" strike="noStrike">
                <a:solidFill>
                  <a:srgbClr val="0000ff"/>
                </a:solidFill>
                <a:latin typeface="Comic Sans MS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Text Box 13"/>
          <p:cNvSpPr/>
          <p:nvPr/>
        </p:nvSpPr>
        <p:spPr>
          <a:xfrm>
            <a:off x="360360" y="2174760"/>
            <a:ext cx="817560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mean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ff"/>
                </a:solidFill>
                <a:latin typeface="Comic Sans MS"/>
              </a:rPr>
              <a:t>+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a ×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2600" spc="-1" strike="noStrike">
                <a:solidFill>
                  <a:srgbClr val="0000ff"/>
                </a:solidFill>
                <a:latin typeface="Comic Sans MS"/>
              </a:rPr>
              <a:t>+ c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Text Box 14"/>
          <p:cNvSpPr/>
          <p:nvPr/>
        </p:nvSpPr>
        <p:spPr>
          <a:xfrm>
            <a:off x="360360" y="2967120"/>
            <a:ext cx="820908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variance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ff"/>
                </a:solidFill>
                <a:latin typeface="Comic Sans MS"/>
              </a:rPr>
              <a:t>+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n-US" sz="26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 ×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Text Box 15"/>
          <p:cNvSpPr/>
          <p:nvPr/>
        </p:nvSpPr>
        <p:spPr>
          <a:xfrm>
            <a:off x="360360" y="3716280"/>
            <a:ext cx="8532720" cy="7369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std. deviation </a:t>
            </a:r>
            <a:r>
              <a:rPr b="1" i="1" lang="el-GR" sz="2800" spc="-1" strike="noStrike">
                <a:solidFill>
                  <a:srgbClr val="000000"/>
                </a:solidFill>
                <a:latin typeface="Comic Sans MS"/>
              </a:rPr>
              <a:t>σ</a:t>
            </a:r>
            <a:r>
              <a:rPr b="1" lang="en-US" sz="26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 baseline="-25000">
                <a:solidFill>
                  <a:srgbClr val="0000ff"/>
                </a:solidFill>
                <a:latin typeface="Comic Sans MS"/>
              </a:rPr>
              <a:t>+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9" name="Object 9"/>
              <p:cNvSpPr txBox="1"/>
              <p:nvPr/>
            </p:nvSpPr>
            <p:spPr>
              <a:xfrm>
                <a:off x="5811840" y="3801960"/>
                <a:ext cx="17701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10" name="Rectangle 5"/>
          <p:cNvSpPr/>
          <p:nvPr/>
        </p:nvSpPr>
        <p:spPr>
          <a:xfrm>
            <a:off x="4680" y="4645080"/>
            <a:ext cx="9144000" cy="18795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Rectangle 7"/>
          <p:cNvSpPr/>
          <p:nvPr/>
        </p:nvSpPr>
        <p:spPr>
          <a:xfrm>
            <a:off x="-28440" y="4654080"/>
            <a:ext cx="9172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The taxi service needs to estimate its earnings per job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Calculate the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vari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standard deviation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of the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amount charged for one jo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if the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mean dist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for a job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8km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with 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variance of 6.25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Remember the taxi service charges 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$3 per kilometer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  plus a 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flat fee of $5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Rectangle 5"/>
          <p:cNvSpPr/>
          <p:nvPr/>
        </p:nvSpPr>
        <p:spPr>
          <a:xfrm>
            <a:off x="0" y="0"/>
            <a:ext cx="9144000" cy="23493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Rectangle 6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Rectangle 7"/>
          <p:cNvSpPr/>
          <p:nvPr/>
        </p:nvSpPr>
        <p:spPr>
          <a:xfrm>
            <a:off x="-12600" y="41760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The taxi service needs to estimate its earnings per job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Calculate the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vari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standard deviation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of the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amount charged for one jo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if the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mean dist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for a job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8km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with 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variance of 6.25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Remember the taxi service charges </a:t>
            </a:r>
            <a:r>
              <a:rPr b="0" i="1" lang="en-NZ" sz="2000" spc="-1" strike="noStrike" u="sng">
                <a:solidFill>
                  <a:srgbClr val="ff3300"/>
                </a:solidFill>
                <a:uFillTx/>
                <a:latin typeface="Comic Sans MS"/>
              </a:rPr>
              <a:t>$3 per kilometer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  plus a </a:t>
            </a:r>
            <a:r>
              <a:rPr b="0" i="1" lang="en-NZ" sz="2000" spc="-1" strike="noStrike" u="sng">
                <a:solidFill>
                  <a:srgbClr val="0000ff"/>
                </a:solidFill>
                <a:uFillTx/>
                <a:latin typeface="Comic Sans MS"/>
              </a:rPr>
              <a:t>flat fee of $5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Rectangle 26"/>
          <p:cNvSpPr/>
          <p:nvPr/>
        </p:nvSpPr>
        <p:spPr>
          <a:xfrm>
            <a:off x="4932360" y="5110200"/>
            <a:ext cx="863640" cy="5335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Rectangle 2"/>
          <p:cNvSpPr/>
          <p:nvPr/>
        </p:nvSpPr>
        <p:spPr>
          <a:xfrm>
            <a:off x="4643280" y="6334200"/>
            <a:ext cx="863640" cy="53316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Rectangle 3"/>
          <p:cNvSpPr/>
          <p:nvPr/>
        </p:nvSpPr>
        <p:spPr>
          <a:xfrm>
            <a:off x="3635280" y="3957480"/>
            <a:ext cx="649440" cy="5335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Rectangle 4"/>
          <p:cNvSpPr/>
          <p:nvPr/>
        </p:nvSpPr>
        <p:spPr>
          <a:xfrm>
            <a:off x="-12600" y="98280"/>
            <a:ext cx="9144000" cy="19400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Rectangle 7"/>
          <p:cNvSpPr/>
          <p:nvPr/>
        </p:nvSpPr>
        <p:spPr>
          <a:xfrm>
            <a:off x="6845400" y="660708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Rectangle 8"/>
          <p:cNvSpPr/>
          <p:nvPr/>
        </p:nvSpPr>
        <p:spPr>
          <a:xfrm>
            <a:off x="-12600" y="10656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.g. The taxi service needs to estimate its earnings per job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Calculate the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vari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standard deviation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of the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amount charged for one jo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if the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mean dist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for a job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8km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with 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variance of 6.25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Remember the taxi service charges </a:t>
            </a:r>
            <a:r>
              <a:rPr b="0" i="1" lang="en-NZ" sz="2000" spc="-1" strike="noStrike" u="sng">
                <a:solidFill>
                  <a:srgbClr val="ff3300"/>
                </a:solidFill>
                <a:uFillTx/>
                <a:latin typeface="Comic Sans MS"/>
              </a:rPr>
              <a:t>$3 per kilometer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  plus a </a:t>
            </a:r>
            <a:r>
              <a:rPr b="0" i="1" lang="en-NZ" sz="2000" spc="-1" strike="noStrike" u="sng">
                <a:solidFill>
                  <a:srgbClr val="0000ff"/>
                </a:solidFill>
                <a:uFillTx/>
                <a:latin typeface="Comic Sans MS"/>
              </a:rPr>
              <a:t>flat fee of $5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"/>
          <p:cNvSpPr/>
          <p:nvPr/>
        </p:nvSpPr>
        <p:spPr>
          <a:xfrm>
            <a:off x="437040" y="2025720"/>
            <a:ext cx="373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e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: Distance for a job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: Price of a job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Rectangle 12"/>
          <p:cNvSpPr/>
          <p:nvPr/>
        </p:nvSpPr>
        <p:spPr>
          <a:xfrm>
            <a:off x="477360" y="3258720"/>
            <a:ext cx="274716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Y) =E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+ 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Rectangle 13"/>
          <p:cNvSpPr/>
          <p:nvPr/>
        </p:nvSpPr>
        <p:spPr>
          <a:xfrm>
            <a:off x="3348720" y="338040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8 + 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Rectangle 14"/>
          <p:cNvSpPr/>
          <p:nvPr/>
        </p:nvSpPr>
        <p:spPr>
          <a:xfrm>
            <a:off x="3353040" y="395640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$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Rectangle 16"/>
          <p:cNvSpPr/>
          <p:nvPr/>
        </p:nvSpPr>
        <p:spPr>
          <a:xfrm>
            <a:off x="4284720" y="6333120"/>
            <a:ext cx="13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7.5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Text Box 18"/>
          <p:cNvSpPr/>
          <p:nvPr/>
        </p:nvSpPr>
        <p:spPr>
          <a:xfrm>
            <a:off x="5348160" y="3165480"/>
            <a:ext cx="3795840" cy="703800"/>
          </a:xfrm>
          <a:prstGeom prst="rect">
            <a:avLst/>
          </a:prstGeom>
          <a:solidFill>
            <a:srgbClr val="ffffff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o the mean price charged for a job is $29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7" name="Object 20"/>
              <p:cNvSpPr txBox="1"/>
              <p:nvPr/>
            </p:nvSpPr>
            <p:spPr>
              <a:xfrm>
                <a:off x="4643280" y="5757840"/>
                <a:ext cx="1125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28" name="Rectangle 21"/>
          <p:cNvSpPr/>
          <p:nvPr/>
        </p:nvSpPr>
        <p:spPr>
          <a:xfrm>
            <a:off x="451800" y="2831040"/>
            <a:ext cx="254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n  Y  = </a:t>
            </a:r>
            <a:r>
              <a:rPr b="1" lang="en-GB" sz="2400" spc="-1" strike="noStrike">
                <a:solidFill>
                  <a:srgbClr val="ff3300"/>
                </a:solidFill>
                <a:latin typeface="Times New Roman"/>
                <a:ea typeface="Arial"/>
              </a:rPr>
              <a:t>3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+ 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22"/>
          <p:cNvSpPr/>
          <p:nvPr/>
        </p:nvSpPr>
        <p:spPr>
          <a:xfrm>
            <a:off x="468360" y="4684320"/>
            <a:ext cx="489564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NZ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N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Var(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  Var(</a:t>
            </a:r>
            <a:r>
              <a:rPr b="1" lang="en-GB" sz="2400" spc="-1" strike="noStrike">
                <a:solidFill>
                  <a:srgbClr val="ff3300"/>
                </a:solidFill>
                <a:latin typeface="Times New Roman"/>
                <a:ea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+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23"/>
          <p:cNvSpPr/>
          <p:nvPr/>
        </p:nvSpPr>
        <p:spPr>
          <a:xfrm>
            <a:off x="4829760" y="4748760"/>
            <a:ext cx="15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6.25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24"/>
          <p:cNvSpPr/>
          <p:nvPr/>
        </p:nvSpPr>
        <p:spPr>
          <a:xfrm>
            <a:off x="4356000" y="51804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6.2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Text Box 25"/>
          <p:cNvSpPr/>
          <p:nvPr/>
        </p:nvSpPr>
        <p:spPr>
          <a:xfrm>
            <a:off x="5950080" y="5184720"/>
            <a:ext cx="3168360" cy="1526760"/>
          </a:xfrm>
          <a:prstGeom prst="rect">
            <a:avLst/>
          </a:prstGeom>
          <a:solidFill>
            <a:srgbClr val="ffffff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o the random variable, Y (price charged) has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variance of 56.2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nd a std. deviation of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$7.5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27"/>
          <p:cNvSpPr/>
          <p:nvPr/>
        </p:nvSpPr>
        <p:spPr>
          <a:xfrm>
            <a:off x="3564000" y="5736960"/>
            <a:ext cx="10810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N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Text Box 28"/>
          <p:cNvSpPr/>
          <p:nvPr/>
        </p:nvSpPr>
        <p:spPr>
          <a:xfrm>
            <a:off x="0" y="5203800"/>
            <a:ext cx="3564000" cy="1618560"/>
          </a:xfrm>
          <a:prstGeom prst="rect">
            <a:avLst/>
          </a:prstGeom>
          <a:solidFill>
            <a:srgbClr val="ffffff"/>
          </a:solidFill>
          <a:ln w="85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o NuLake pg. 164-16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n Sigma (old) – pg. 3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Further extens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igma (old): Ex. 2.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571680" y="609120"/>
            <a:ext cx="8215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Times New Roman"/>
              </a:rPr>
              <a:t>LESSONS 5 &amp; 6 – Sums &amp; differences of 2 random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 txBox="1"/>
          <p:nvPr/>
        </p:nvSpPr>
        <p:spPr>
          <a:xfrm>
            <a:off x="428400" y="1980720"/>
            <a:ext cx="871524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oint of tod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How to calculate the mean, variance (and standard deviation) of the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sum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of 2 independent random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How to calculate the mean, variance (and standard deviation) of the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between 2 independent random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Warm-up quiz  (re-cap from last lesson – function of  a random variabl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Examples &amp; no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Do NuLake pg. 168 (just Q187 &amp; 18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Then do Sigma (old – 2</a:t>
            </a:r>
            <a:r>
              <a:rPr b="0" lang="en-NZ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 edition) – pg. 41: Ex. 2.9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</a:rPr>
              <a:t>(skip Q2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Do Sigma (old – 2</a:t>
            </a:r>
            <a:r>
              <a:rPr b="0" lang="en-NZ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 edition) – pg. 42 &amp; 43: Ex. 2.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Times New Roman"/>
              </a:rPr>
              <a:t>Extension:  NuLake p169, 170:  Questions 189-194 on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4"/>
          <p:cNvSpPr/>
          <p:nvPr/>
        </p:nvSpPr>
        <p:spPr>
          <a:xfrm>
            <a:off x="0" y="4500720"/>
            <a:ext cx="9144000" cy="23572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Rectangle 7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Rectangle 8"/>
          <p:cNvSpPr/>
          <p:nvPr/>
        </p:nvSpPr>
        <p:spPr>
          <a:xfrm>
            <a:off x="411120" y="4644000"/>
            <a:ext cx="873288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WARM-UP QUIZ: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is a random variable wit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an 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varianc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= 1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alculate the mean, variance and standard deviation of Y, 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Y = 6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Y = 3X -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Y = -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Rectangle 23"/>
          <p:cNvSpPr/>
          <p:nvPr/>
        </p:nvSpPr>
        <p:spPr>
          <a:xfrm>
            <a:off x="250920" y="333360"/>
            <a:ext cx="889308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RULES: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inear Function, Y, of a Random Variable, 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Text Box 24"/>
          <p:cNvSpPr/>
          <p:nvPr/>
        </p:nvSpPr>
        <p:spPr>
          <a:xfrm>
            <a:off x="3276720" y="907920"/>
            <a:ext cx="237636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9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Y = </a:t>
            </a:r>
            <a:r>
              <a:rPr b="1" lang="en-NZ" sz="28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lang="en-NZ" sz="2800" spc="-1" strike="noStrike">
                <a:solidFill>
                  <a:srgbClr val="0000ff"/>
                </a:solidFill>
                <a:latin typeface="Comic Sans MS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Text Box 25"/>
          <p:cNvSpPr/>
          <p:nvPr/>
        </p:nvSpPr>
        <p:spPr>
          <a:xfrm>
            <a:off x="395280" y="1773360"/>
            <a:ext cx="810576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mean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ff"/>
                </a:solidFill>
                <a:latin typeface="Comic Sans MS"/>
              </a:rPr>
              <a:t>+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a ×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2600" spc="-1" strike="noStrike">
                <a:solidFill>
                  <a:srgbClr val="0000ff"/>
                </a:solidFill>
                <a:latin typeface="Comic Sans MS"/>
              </a:rPr>
              <a:t>+ c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Text Box 26"/>
          <p:cNvSpPr/>
          <p:nvPr/>
        </p:nvSpPr>
        <p:spPr>
          <a:xfrm>
            <a:off x="395280" y="2565360"/>
            <a:ext cx="820908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variance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ff"/>
                </a:solidFill>
                <a:latin typeface="Comic Sans MS"/>
              </a:rPr>
              <a:t>+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n-US" sz="26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ff3300"/>
                </a:solidFill>
                <a:latin typeface="Comic Sans MS"/>
              </a:rPr>
              <a:t> ×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Text Box 27"/>
          <p:cNvSpPr/>
          <p:nvPr/>
        </p:nvSpPr>
        <p:spPr>
          <a:xfrm>
            <a:off x="395280" y="3314880"/>
            <a:ext cx="8532720" cy="7369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std. deviation </a:t>
            </a:r>
            <a:r>
              <a:rPr b="1" i="1" lang="el-GR" sz="2800" spc="-1" strike="noStrike">
                <a:solidFill>
                  <a:srgbClr val="000000"/>
                </a:solidFill>
                <a:latin typeface="Comic Sans MS"/>
              </a:rPr>
              <a:t>σ</a:t>
            </a:r>
            <a:r>
              <a:rPr b="1" lang="en-US" sz="26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 baseline="-25000">
                <a:solidFill>
                  <a:srgbClr val="0000ff"/>
                </a:solidFill>
                <a:latin typeface="Comic Sans MS"/>
              </a:rPr>
              <a:t>+c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5" name="Object 28"/>
              <p:cNvSpPr txBox="1"/>
              <p:nvPr/>
            </p:nvSpPr>
            <p:spPr>
              <a:xfrm>
                <a:off x="5940360" y="3400560"/>
                <a:ext cx="21589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2"/>
          <p:cNvSpPr/>
          <p:nvPr/>
        </p:nvSpPr>
        <p:spPr>
          <a:xfrm>
            <a:off x="3492360" y="5877000"/>
            <a:ext cx="503280" cy="53316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Rectangle 3"/>
          <p:cNvSpPr/>
          <p:nvPr/>
        </p:nvSpPr>
        <p:spPr>
          <a:xfrm>
            <a:off x="3635280" y="4437000"/>
            <a:ext cx="649440" cy="5335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Rectangle 4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Rectangle 6"/>
          <p:cNvSpPr/>
          <p:nvPr/>
        </p:nvSpPr>
        <p:spPr>
          <a:xfrm>
            <a:off x="3375000" y="2533680"/>
            <a:ext cx="623880" cy="5335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Rectangle 7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Rectangle 8"/>
          <p:cNvSpPr/>
          <p:nvPr/>
        </p:nvSpPr>
        <p:spPr>
          <a:xfrm>
            <a:off x="468360" y="-16560"/>
            <a:ext cx="867564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WARM-UP QUIZ: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is a random variable wit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an 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varianc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= 1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alculate the mean, variance and standard deviation of Y, 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Y = 6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Y = 3X -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Y = -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Rectangle 9"/>
          <p:cNvSpPr/>
          <p:nvPr/>
        </p:nvSpPr>
        <p:spPr>
          <a:xfrm>
            <a:off x="250920" y="1536480"/>
            <a:ext cx="320364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Y) =  E(6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Rectangle 10"/>
          <p:cNvSpPr/>
          <p:nvPr/>
        </p:nvSpPr>
        <p:spPr>
          <a:xfrm>
            <a:off x="3051000" y="1583280"/>
            <a:ext cx="170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6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E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Rectangle 11"/>
          <p:cNvSpPr/>
          <p:nvPr/>
        </p:nvSpPr>
        <p:spPr>
          <a:xfrm>
            <a:off x="3051360" y="20689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6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20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Rectangle 12"/>
          <p:cNvSpPr/>
          <p:nvPr/>
        </p:nvSpPr>
        <p:spPr>
          <a:xfrm>
            <a:off x="3088800" y="255636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Rectangle 13"/>
          <p:cNvSpPr/>
          <p:nvPr/>
        </p:nvSpPr>
        <p:spPr>
          <a:xfrm>
            <a:off x="0" y="3479400"/>
            <a:ext cx="34369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NZ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ar(Y) =Var(6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Rectangle 14"/>
          <p:cNvSpPr/>
          <p:nvPr/>
        </p:nvSpPr>
        <p:spPr>
          <a:xfrm>
            <a:off x="3307320" y="357228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6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Var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Rectangle 15"/>
          <p:cNvSpPr/>
          <p:nvPr/>
        </p:nvSpPr>
        <p:spPr>
          <a:xfrm>
            <a:off x="3311640" y="40042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36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16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Rectangle 16"/>
          <p:cNvSpPr/>
          <p:nvPr/>
        </p:nvSpPr>
        <p:spPr>
          <a:xfrm>
            <a:off x="3349080" y="443592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7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Rectangle 17"/>
          <p:cNvSpPr/>
          <p:nvPr/>
        </p:nvSpPr>
        <p:spPr>
          <a:xfrm>
            <a:off x="2411280" y="5495760"/>
            <a:ext cx="827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19"/>
          <p:cNvSpPr/>
          <p:nvPr/>
        </p:nvSpPr>
        <p:spPr>
          <a:xfrm>
            <a:off x="2843280" y="6020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Text Box 20"/>
          <p:cNvSpPr/>
          <p:nvPr/>
        </p:nvSpPr>
        <p:spPr>
          <a:xfrm>
            <a:off x="5348160" y="1584360"/>
            <a:ext cx="37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Simply multiply E(X) by 6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Text Box 21"/>
          <p:cNvSpPr/>
          <p:nvPr/>
        </p:nvSpPr>
        <p:spPr>
          <a:xfrm>
            <a:off x="5348160" y="3562200"/>
            <a:ext cx="37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Square the coefficient of 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Text Box 22"/>
          <p:cNvSpPr/>
          <p:nvPr/>
        </p:nvSpPr>
        <p:spPr>
          <a:xfrm>
            <a:off x="5219640" y="5491080"/>
            <a:ext cx="39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Square root of the varian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5" name="Object 23"/>
              <p:cNvSpPr txBox="1"/>
              <p:nvPr/>
            </p:nvSpPr>
            <p:spPr>
              <a:xfrm>
                <a:off x="3276720" y="5445000"/>
                <a:ext cx="8650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7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Rectangle 2"/>
          <p:cNvSpPr/>
          <p:nvPr/>
        </p:nvSpPr>
        <p:spPr>
          <a:xfrm>
            <a:off x="4211640" y="5950080"/>
            <a:ext cx="503280" cy="53316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Rectangle 3"/>
          <p:cNvSpPr/>
          <p:nvPr/>
        </p:nvSpPr>
        <p:spPr>
          <a:xfrm>
            <a:off x="4067280" y="4437000"/>
            <a:ext cx="649080" cy="5335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Rectangle 4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Rectangle 6"/>
          <p:cNvSpPr/>
          <p:nvPr/>
        </p:nvSpPr>
        <p:spPr>
          <a:xfrm>
            <a:off x="3375000" y="2533680"/>
            <a:ext cx="623880" cy="5335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Rectangle 7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Rectangle 8"/>
          <p:cNvSpPr/>
          <p:nvPr/>
        </p:nvSpPr>
        <p:spPr>
          <a:xfrm>
            <a:off x="468360" y="15480"/>
            <a:ext cx="8675640" cy="15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ARM-UP QUIZ: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is a random variable with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ean 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arianc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= 1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alculate the mean, variance and standard deviation of Y, 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Y = 6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Y = 3X -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Y = -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Rectangle 9"/>
          <p:cNvSpPr/>
          <p:nvPr/>
        </p:nvSpPr>
        <p:spPr>
          <a:xfrm>
            <a:off x="0" y="1536480"/>
            <a:ext cx="33480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Y) = E(3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 4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Rectangle 10"/>
          <p:cNvSpPr/>
          <p:nvPr/>
        </p:nvSpPr>
        <p:spPr>
          <a:xfrm>
            <a:off x="3050640" y="158328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3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E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 -  4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Rectangle 11"/>
          <p:cNvSpPr/>
          <p:nvPr/>
        </p:nvSpPr>
        <p:spPr>
          <a:xfrm>
            <a:off x="3087720" y="2068920"/>
            <a:ext cx="19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3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0  -  4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Rectangle 12"/>
          <p:cNvSpPr/>
          <p:nvPr/>
        </p:nvSpPr>
        <p:spPr>
          <a:xfrm>
            <a:off x="3088800" y="2556360"/>
            <a:ext cx="81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Rectangle 13"/>
          <p:cNvSpPr/>
          <p:nvPr/>
        </p:nvSpPr>
        <p:spPr>
          <a:xfrm>
            <a:off x="0" y="3449520"/>
            <a:ext cx="392436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NZ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ar(Y) =Var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Rectangle 14"/>
          <p:cNvSpPr/>
          <p:nvPr/>
        </p:nvSpPr>
        <p:spPr>
          <a:xfrm>
            <a:off x="3667680" y="349920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Var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Rectangle 15"/>
          <p:cNvSpPr/>
          <p:nvPr/>
        </p:nvSpPr>
        <p:spPr>
          <a:xfrm>
            <a:off x="3672000" y="39326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9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16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Rectangle 16"/>
          <p:cNvSpPr/>
          <p:nvPr/>
        </p:nvSpPr>
        <p:spPr>
          <a:xfrm>
            <a:off x="3709440" y="4507560"/>
            <a:ext cx="103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4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Rectangle 17"/>
          <p:cNvSpPr/>
          <p:nvPr/>
        </p:nvSpPr>
        <p:spPr>
          <a:xfrm>
            <a:off x="3213720" y="5495760"/>
            <a:ext cx="8254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Rectangle 18"/>
          <p:cNvSpPr/>
          <p:nvPr/>
        </p:nvSpPr>
        <p:spPr>
          <a:xfrm>
            <a:off x="3564000" y="6020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Text Box 19"/>
          <p:cNvSpPr/>
          <p:nvPr/>
        </p:nvSpPr>
        <p:spPr>
          <a:xfrm>
            <a:off x="5348160" y="1584360"/>
            <a:ext cx="37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Multiply E(X) by 3 and subtract 4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Text Box 20"/>
          <p:cNvSpPr/>
          <p:nvPr/>
        </p:nvSpPr>
        <p:spPr>
          <a:xfrm>
            <a:off x="6156360" y="3357720"/>
            <a:ext cx="29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Square the coefficient of X. 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IGNORE THE -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Text Box 21"/>
          <p:cNvSpPr/>
          <p:nvPr/>
        </p:nvSpPr>
        <p:spPr>
          <a:xfrm>
            <a:off x="5219640" y="5491080"/>
            <a:ext cx="39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Square root of the varian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5" name="Object 22"/>
              <p:cNvSpPr txBox="1"/>
              <p:nvPr/>
            </p:nvSpPr>
            <p:spPr>
              <a:xfrm>
                <a:off x="3995640" y="5445000"/>
                <a:ext cx="8654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Rectangle 2"/>
          <p:cNvSpPr/>
          <p:nvPr/>
        </p:nvSpPr>
        <p:spPr>
          <a:xfrm>
            <a:off x="3492360" y="5877000"/>
            <a:ext cx="503280" cy="53316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Rectangle 3"/>
          <p:cNvSpPr/>
          <p:nvPr/>
        </p:nvSpPr>
        <p:spPr>
          <a:xfrm>
            <a:off x="3635280" y="4005360"/>
            <a:ext cx="649440" cy="53316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Rectangle 4"/>
          <p:cNvSpPr/>
          <p:nvPr/>
        </p:nvSpPr>
        <p:spPr>
          <a:xfrm>
            <a:off x="0" y="0"/>
            <a:ext cx="9144000" cy="15001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Text Box 5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7.07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Rectangle 6"/>
          <p:cNvSpPr/>
          <p:nvPr/>
        </p:nvSpPr>
        <p:spPr>
          <a:xfrm>
            <a:off x="3348000" y="2060640"/>
            <a:ext cx="623880" cy="53316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Rectangle 7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Rectangle 8"/>
          <p:cNvSpPr/>
          <p:nvPr/>
        </p:nvSpPr>
        <p:spPr>
          <a:xfrm>
            <a:off x="468360" y="15480"/>
            <a:ext cx="8675640" cy="15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ARM-UP QUIZ: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is a random variable with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ean 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arianc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= 1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alculate the mean, variance and standard deviation of Y, 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Y = 6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Y = 3X -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Y = -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Rectangle 9"/>
          <p:cNvSpPr/>
          <p:nvPr/>
        </p:nvSpPr>
        <p:spPr>
          <a:xfrm>
            <a:off x="250920" y="1536480"/>
            <a:ext cx="284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Y) =  E(-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Rectangle 10"/>
          <p:cNvSpPr/>
          <p:nvPr/>
        </p:nvSpPr>
        <p:spPr>
          <a:xfrm>
            <a:off x="3050640" y="1583280"/>
            <a:ext cx="18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-1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E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2"/>
          <p:cNvSpPr/>
          <p:nvPr/>
        </p:nvSpPr>
        <p:spPr>
          <a:xfrm>
            <a:off x="3060360" y="2132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Rectangle 13"/>
          <p:cNvSpPr/>
          <p:nvPr/>
        </p:nvSpPr>
        <p:spPr>
          <a:xfrm>
            <a:off x="0" y="3479400"/>
            <a:ext cx="3635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NZ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ar(Y) =Var(-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Rectangle 14"/>
          <p:cNvSpPr/>
          <p:nvPr/>
        </p:nvSpPr>
        <p:spPr>
          <a:xfrm>
            <a:off x="3335400" y="357228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Var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Rectangle 15"/>
          <p:cNvSpPr/>
          <p:nvPr/>
        </p:nvSpPr>
        <p:spPr>
          <a:xfrm>
            <a:off x="3349080" y="4004280"/>
            <a:ext cx="81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Rectangle 17"/>
          <p:cNvSpPr/>
          <p:nvPr/>
        </p:nvSpPr>
        <p:spPr>
          <a:xfrm>
            <a:off x="2411280" y="5495760"/>
            <a:ext cx="827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Rectangle 18"/>
          <p:cNvSpPr/>
          <p:nvPr/>
        </p:nvSpPr>
        <p:spPr>
          <a:xfrm>
            <a:off x="2843280" y="6020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Text Box 19"/>
          <p:cNvSpPr/>
          <p:nvPr/>
        </p:nvSpPr>
        <p:spPr>
          <a:xfrm>
            <a:off x="5348160" y="1584360"/>
            <a:ext cx="37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Simply multiply E(X) by -1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Text Box 20"/>
          <p:cNvSpPr/>
          <p:nvPr/>
        </p:nvSpPr>
        <p:spPr>
          <a:xfrm>
            <a:off x="5348160" y="3562200"/>
            <a:ext cx="37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This has no effect on the SPREAD of the dat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Text Box 21"/>
          <p:cNvSpPr/>
          <p:nvPr/>
        </p:nvSpPr>
        <p:spPr>
          <a:xfrm>
            <a:off x="5219640" y="5491080"/>
            <a:ext cx="39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So of course the standard deviation is also unchang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4" name="Object 22"/>
              <p:cNvSpPr txBox="1"/>
              <p:nvPr/>
            </p:nvSpPr>
            <p:spPr>
              <a:xfrm>
                <a:off x="3362400" y="5445000"/>
                <a:ext cx="6919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0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easur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Rectangle 2"/>
          <p:cNvSpPr/>
          <p:nvPr/>
        </p:nvSpPr>
        <p:spPr>
          <a:xfrm>
            <a:off x="0" y="4508640"/>
            <a:ext cx="9144000" cy="23493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Rectangle 5"/>
          <p:cNvSpPr/>
          <p:nvPr/>
        </p:nvSpPr>
        <p:spPr>
          <a:xfrm>
            <a:off x="179280" y="4706280"/>
            <a:ext cx="896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E.g. 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The mean weight of Year 13 males at a school is 72Kg with a standard deviation of 5Kg.  The mean weight of Year 13 females at the same school is 56Kg with a standard deviation of 4K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One boy and one girl are chosen at random and their individual weights are added togeth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What would be the mean, variance and standard deviation of their combined weigh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Rectangle 6"/>
          <p:cNvSpPr/>
          <p:nvPr/>
        </p:nvSpPr>
        <p:spPr>
          <a:xfrm>
            <a:off x="250920" y="189000"/>
            <a:ext cx="8893080" cy="61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SUMS OF 2 </a:t>
            </a:r>
            <a:r>
              <a:rPr b="1" lang="en-NZ" sz="3200" spc="-1" strike="noStrike" u="sng">
                <a:solidFill>
                  <a:srgbClr val="ff3300"/>
                </a:solidFill>
                <a:uFillTx/>
                <a:latin typeface="Comic Sans MS"/>
              </a:rPr>
              <a:t>INDEPENDENT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 RANDOM VARIAB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Text Box 7"/>
          <p:cNvSpPr/>
          <p:nvPr/>
        </p:nvSpPr>
        <p:spPr>
          <a:xfrm>
            <a:off x="2000160" y="1197000"/>
            <a:ext cx="485784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9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Distribution of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Text Box 8"/>
          <p:cNvSpPr/>
          <p:nvPr/>
        </p:nvSpPr>
        <p:spPr>
          <a:xfrm>
            <a:off x="1332000" y="2133720"/>
            <a:ext cx="734544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mean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 + E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Text Box 9"/>
          <p:cNvSpPr/>
          <p:nvPr/>
        </p:nvSpPr>
        <p:spPr>
          <a:xfrm>
            <a:off x="395280" y="2897280"/>
            <a:ext cx="874872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variance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ar(X + Y)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 + Var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Text Box 10"/>
          <p:cNvSpPr/>
          <p:nvPr/>
        </p:nvSpPr>
        <p:spPr>
          <a:xfrm>
            <a:off x="395280" y="3646440"/>
            <a:ext cx="8532720" cy="7495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std. deviation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σ</a:t>
            </a:r>
            <a:r>
              <a:rPr b="1" lang="en-NZ" sz="2800" spc="-1" strike="noStrike" baseline="-25000">
                <a:solidFill>
                  <a:srgbClr val="000000"/>
                </a:solidFill>
                <a:latin typeface="Comic Sans MS"/>
              </a:rPr>
              <a:t>X+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3" name="Object 11"/>
              <p:cNvSpPr txBox="1"/>
              <p:nvPr/>
            </p:nvSpPr>
            <p:spPr>
              <a:xfrm>
                <a:off x="5364000" y="3789360"/>
                <a:ext cx="33465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Rectangle 2"/>
          <p:cNvSpPr/>
          <p:nvPr/>
        </p:nvSpPr>
        <p:spPr>
          <a:xfrm>
            <a:off x="0" y="0"/>
            <a:ext cx="9144000" cy="23493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Rectangle 4"/>
          <p:cNvSpPr/>
          <p:nvPr/>
        </p:nvSpPr>
        <p:spPr>
          <a:xfrm>
            <a:off x="250920" y="347040"/>
            <a:ext cx="842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E.g. 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The mean weight of Year 13 males at a school is 72Kg with a standard deviation of 5Kg.  The mean weight of Year 13 females at the same school is 56Kg with a standard deviation of 4K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One boy and one girl are chosen at random and their individual weights are added togeth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What would be the mean, variance and standard deviation of their combined weigh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Rectangle 11"/>
          <p:cNvSpPr/>
          <p:nvPr/>
        </p:nvSpPr>
        <p:spPr>
          <a:xfrm>
            <a:off x="170640" y="2336400"/>
            <a:ext cx="479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e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 Combined Weight;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Weight of a randomly chosen bo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Weight of a randomly chosen gir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Rectangle 25"/>
          <p:cNvSpPr/>
          <p:nvPr/>
        </p:nvSpPr>
        <p:spPr>
          <a:xfrm>
            <a:off x="5403960" y="2730960"/>
            <a:ext cx="23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Rectangle 27"/>
          <p:cNvSpPr/>
          <p:nvPr/>
        </p:nvSpPr>
        <p:spPr>
          <a:xfrm>
            <a:off x="0" y="3482640"/>
            <a:ext cx="525636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E(T) = E(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 E(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E(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0" name="Object 1"/>
              <p:cNvSpPr txBox="1"/>
              <p:nvPr/>
            </p:nvSpPr>
            <p:spPr>
              <a:xfrm>
                <a:off x="2568600" y="4022640"/>
                <a:ext cx="1363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1" name="Object 2"/>
              <p:cNvSpPr txBox="1"/>
              <p:nvPr/>
            </p:nvSpPr>
            <p:spPr>
              <a:xfrm>
                <a:off x="2627280" y="4525920"/>
                <a:ext cx="12193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8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2" name="Straight Connector 4"/>
          <p:cNvSpPr/>
          <p:nvPr/>
        </p:nvSpPr>
        <p:spPr>
          <a:xfrm>
            <a:off x="0" y="35323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Straight Connector 6"/>
          <p:cNvSpPr/>
          <p:nvPr/>
        </p:nvSpPr>
        <p:spPr>
          <a:xfrm>
            <a:off x="4462560" y="3503520"/>
            <a:ext cx="0" cy="334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Rectangle 27"/>
          <p:cNvSpPr/>
          <p:nvPr/>
        </p:nvSpPr>
        <p:spPr>
          <a:xfrm>
            <a:off x="4462560" y="353124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(T)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=   Var(X)+Var(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Rectangle 27"/>
          <p:cNvSpPr/>
          <p:nvPr/>
        </p:nvSpPr>
        <p:spPr>
          <a:xfrm>
            <a:off x="4560840" y="405432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5</a:t>
            </a:r>
            <a:r>
              <a:rPr b="0" lang="en-NZ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4</a:t>
            </a:r>
            <a:r>
              <a:rPr b="0" lang="en-NZ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Rectangle 12"/>
          <p:cNvSpPr/>
          <p:nvPr/>
        </p:nvSpPr>
        <p:spPr>
          <a:xfrm>
            <a:off x="4462560" y="4770000"/>
            <a:ext cx="4778280" cy="1191240"/>
          </a:xfrm>
          <a:prstGeom prst="rect">
            <a:avLst/>
          </a:prstGeom>
          <a:solidFill>
            <a:srgbClr val="ffffff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lways work through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variance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rather than the standard devia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We square the boys’ and girls’ standard deviations to get their varianc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Down Arrow 7"/>
          <p:cNvSpPr/>
          <p:nvPr/>
        </p:nvSpPr>
        <p:spPr>
          <a:xfrm rot="10800000">
            <a:off x="6600960" y="4494240"/>
            <a:ext cx="503280" cy="271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Rectangle 12"/>
          <p:cNvSpPr/>
          <p:nvPr/>
        </p:nvSpPr>
        <p:spPr>
          <a:xfrm>
            <a:off x="336600" y="6056640"/>
            <a:ext cx="8673840" cy="764280"/>
          </a:xfrm>
          <a:prstGeom prst="rect">
            <a:avLst/>
          </a:prstGeom>
          <a:solidFill>
            <a:srgbClr val="ffffff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ssumption: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  That the marks for the 2 tests are independen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Then we can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add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 the varianc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Rectangle 2"/>
          <p:cNvSpPr/>
          <p:nvPr/>
        </p:nvSpPr>
        <p:spPr>
          <a:xfrm>
            <a:off x="0" y="0"/>
            <a:ext cx="9144000" cy="23493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"/>
          <p:cNvSpPr/>
          <p:nvPr/>
        </p:nvSpPr>
        <p:spPr>
          <a:xfrm>
            <a:off x="250920" y="347040"/>
            <a:ext cx="842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E.g. 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The mean weight of Year 13 males at a school is 72Kg with a standard deviation of 5Kg.  The mean weight of Year 13 females at the same school is 56Kg with a standard deviation of 4K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One boy and one girl are chosen at random and their individual weights are added togeth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What would be the mean, variance and standard deviation of their combined weigh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11"/>
          <p:cNvSpPr/>
          <p:nvPr/>
        </p:nvSpPr>
        <p:spPr>
          <a:xfrm>
            <a:off x="170640" y="2336400"/>
            <a:ext cx="479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e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 Combined Weight;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Weight of a randomly chosen bo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 Weight of a randomly chosen gir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25"/>
          <p:cNvSpPr/>
          <p:nvPr/>
        </p:nvSpPr>
        <p:spPr>
          <a:xfrm>
            <a:off x="5403960" y="2730960"/>
            <a:ext cx="23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27"/>
          <p:cNvSpPr/>
          <p:nvPr/>
        </p:nvSpPr>
        <p:spPr>
          <a:xfrm>
            <a:off x="0" y="3482640"/>
            <a:ext cx="525636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E(T) = E(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 E(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E(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5" name="Object 1"/>
              <p:cNvSpPr txBox="1"/>
              <p:nvPr/>
            </p:nvSpPr>
            <p:spPr>
              <a:xfrm>
                <a:off x="2568600" y="4022640"/>
                <a:ext cx="1363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6" name="Object 2"/>
              <p:cNvSpPr txBox="1"/>
              <p:nvPr/>
            </p:nvSpPr>
            <p:spPr>
              <a:xfrm>
                <a:off x="2627280" y="4525920"/>
                <a:ext cx="12193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8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7" name="Straight Connector 4"/>
          <p:cNvSpPr/>
          <p:nvPr/>
        </p:nvSpPr>
        <p:spPr>
          <a:xfrm>
            <a:off x="0" y="35323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Straight Connector 6"/>
          <p:cNvSpPr/>
          <p:nvPr/>
        </p:nvSpPr>
        <p:spPr>
          <a:xfrm>
            <a:off x="4462560" y="3503520"/>
            <a:ext cx="0" cy="334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Rectangle 27"/>
          <p:cNvSpPr/>
          <p:nvPr/>
        </p:nvSpPr>
        <p:spPr>
          <a:xfrm>
            <a:off x="4462560" y="353124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(T)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=   Var(X)+Var(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Rectangle 27"/>
          <p:cNvSpPr/>
          <p:nvPr/>
        </p:nvSpPr>
        <p:spPr>
          <a:xfrm>
            <a:off x="4560840" y="405432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5</a:t>
            </a:r>
            <a:r>
              <a:rPr b="0" lang="en-NZ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4</a:t>
            </a:r>
            <a:r>
              <a:rPr b="0" lang="en-NZ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Rectangle 12"/>
          <p:cNvSpPr/>
          <p:nvPr/>
        </p:nvSpPr>
        <p:spPr>
          <a:xfrm>
            <a:off x="0" y="5619240"/>
            <a:ext cx="9144000" cy="1099440"/>
          </a:xfrm>
          <a:prstGeom prst="rect">
            <a:avLst/>
          </a:prstGeom>
          <a:solidFill>
            <a:srgbClr val="ffffff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So, assuming that the weights of boys and girls are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independent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, we would expect the combined weight of a randomly chosen boy &amp; girl to be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128kg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, with a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standard deviation of 6.403kg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(4sf)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Rectangle 27"/>
          <p:cNvSpPr/>
          <p:nvPr/>
        </p:nvSpPr>
        <p:spPr>
          <a:xfrm>
            <a:off x="4583160" y="44384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4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3" name="Object 3"/>
              <p:cNvSpPr txBox="1"/>
              <p:nvPr/>
            </p:nvSpPr>
            <p:spPr>
              <a:xfrm>
                <a:off x="4489560" y="5029200"/>
                <a:ext cx="1573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4" name="Object 5"/>
              <p:cNvSpPr txBox="1"/>
              <p:nvPr/>
            </p:nvSpPr>
            <p:spPr>
              <a:xfrm>
                <a:off x="6124680" y="5037120"/>
                <a:ext cx="7207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45" name="Rectangle 27"/>
          <p:cNvSpPr/>
          <p:nvPr/>
        </p:nvSpPr>
        <p:spPr>
          <a:xfrm>
            <a:off x="6767640" y="5011200"/>
            <a:ext cx="30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6.403kg (4sf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Rectangle 2"/>
          <p:cNvSpPr/>
          <p:nvPr/>
        </p:nvSpPr>
        <p:spPr>
          <a:xfrm>
            <a:off x="0" y="5357880"/>
            <a:ext cx="9144000" cy="15001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Rectangle 5"/>
          <p:cNvSpPr/>
          <p:nvPr/>
        </p:nvSpPr>
        <p:spPr>
          <a:xfrm>
            <a:off x="179280" y="5900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We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SUBTRACT the MEANS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, but still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ADD the VARIANCES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Rectangle 6"/>
          <p:cNvSpPr/>
          <p:nvPr/>
        </p:nvSpPr>
        <p:spPr>
          <a:xfrm>
            <a:off x="250920" y="260280"/>
            <a:ext cx="8893080" cy="60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DIFFERENCE BETWEEN 2 INDEPENDENT RANDOM VARIAB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Text Box 7"/>
          <p:cNvSpPr/>
          <p:nvPr/>
        </p:nvSpPr>
        <p:spPr>
          <a:xfrm>
            <a:off x="2714760" y="1285920"/>
            <a:ext cx="424800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29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Distribution of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Text Box 8"/>
          <p:cNvSpPr/>
          <p:nvPr/>
        </p:nvSpPr>
        <p:spPr>
          <a:xfrm>
            <a:off x="1332000" y="2276640"/>
            <a:ext cx="734544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mean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 - E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Text Box 9"/>
          <p:cNvSpPr/>
          <p:nvPr/>
        </p:nvSpPr>
        <p:spPr>
          <a:xfrm>
            <a:off x="395280" y="3068640"/>
            <a:ext cx="8748720" cy="99864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variance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Var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Text Box 10"/>
          <p:cNvSpPr/>
          <p:nvPr/>
        </p:nvSpPr>
        <p:spPr>
          <a:xfrm>
            <a:off x="395280" y="4149720"/>
            <a:ext cx="8748720" cy="7495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std. deviation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σ</a:t>
            </a:r>
            <a:r>
              <a:rPr b="1" lang="en-NZ" sz="2800" spc="-1" strike="noStrike" baseline="-25000">
                <a:solidFill>
                  <a:srgbClr val="000000"/>
                </a:solidFill>
                <a:latin typeface="Comic Sans MS"/>
              </a:rPr>
              <a:t>X-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4" name="Object 11"/>
              <p:cNvSpPr txBox="1"/>
              <p:nvPr/>
            </p:nvSpPr>
            <p:spPr>
              <a:xfrm>
                <a:off x="5684760" y="4221000"/>
                <a:ext cx="33163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1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1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8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84" dur="3000" fill="hold"/>
                                        <p:tgtEl>
                                          <p:spTgt spid="1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8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Rectangle 2"/>
          <p:cNvSpPr/>
          <p:nvPr/>
        </p:nvSpPr>
        <p:spPr>
          <a:xfrm>
            <a:off x="0" y="2852640"/>
            <a:ext cx="9144000" cy="15001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Rectangle 4"/>
          <p:cNvSpPr/>
          <p:nvPr/>
        </p:nvSpPr>
        <p:spPr>
          <a:xfrm>
            <a:off x="0" y="3511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We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SUBTRACT the MEANS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, but still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ADD the VARIANCES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Rectangle 5"/>
          <p:cNvSpPr/>
          <p:nvPr/>
        </p:nvSpPr>
        <p:spPr>
          <a:xfrm>
            <a:off x="250920" y="260280"/>
            <a:ext cx="8893080" cy="60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Text Box 7"/>
          <p:cNvSpPr/>
          <p:nvPr/>
        </p:nvSpPr>
        <p:spPr>
          <a:xfrm>
            <a:off x="1332000" y="0"/>
            <a:ext cx="734544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mean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 - E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Text Box 8"/>
          <p:cNvSpPr/>
          <p:nvPr/>
        </p:nvSpPr>
        <p:spPr>
          <a:xfrm>
            <a:off x="395280" y="792000"/>
            <a:ext cx="8748720" cy="99864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variance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Var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Text Box 9"/>
          <p:cNvSpPr/>
          <p:nvPr/>
        </p:nvSpPr>
        <p:spPr>
          <a:xfrm>
            <a:off x="395280" y="1873080"/>
            <a:ext cx="8748720" cy="7495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std. deviation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σ</a:t>
            </a:r>
            <a:r>
              <a:rPr b="1" lang="en-NZ" sz="2800" spc="-1" strike="noStrike" baseline="-25000">
                <a:solidFill>
                  <a:srgbClr val="000000"/>
                </a:solidFill>
                <a:latin typeface="Comic Sans MS"/>
              </a:rPr>
              <a:t>X-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2" name="Object 10"/>
              <p:cNvSpPr txBox="1"/>
              <p:nvPr/>
            </p:nvSpPr>
            <p:spPr>
              <a:xfrm>
                <a:off x="5684760" y="1989000"/>
                <a:ext cx="33163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63" name="Rectangle 11"/>
          <p:cNvSpPr/>
          <p:nvPr/>
        </p:nvSpPr>
        <p:spPr>
          <a:xfrm>
            <a:off x="0" y="4797360"/>
            <a:ext cx="9144000" cy="2089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Rectangle 12"/>
          <p:cNvSpPr/>
          <p:nvPr/>
        </p:nvSpPr>
        <p:spPr>
          <a:xfrm>
            <a:off x="503280" y="4446360"/>
            <a:ext cx="8640720" cy="25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contents of a tin of cat food have a distribution with mean 500 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nd standard deviation 6 g. A spoon is used to remove the food fro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tin. The amount of food removed has a distribution with mean 60 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nd standard deviation 4 g. Calculate the mean and standard devi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of the amount of food left in the tin after one spoonful is remov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Text Box 13"/>
          <p:cNvSpPr/>
          <p:nvPr/>
        </p:nvSpPr>
        <p:spPr>
          <a:xfrm>
            <a:off x="0" y="48690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7.09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Rectangle 8"/>
          <p:cNvSpPr/>
          <p:nvPr/>
        </p:nvSpPr>
        <p:spPr>
          <a:xfrm>
            <a:off x="0" y="0"/>
            <a:ext cx="9144000" cy="2089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Rectangle 9"/>
          <p:cNvSpPr/>
          <p:nvPr/>
        </p:nvSpPr>
        <p:spPr>
          <a:xfrm>
            <a:off x="503280" y="-351000"/>
            <a:ext cx="8640720" cy="25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contents of a tin of cat food have a distribution with mean 500 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nd standard deviation 6 g. A spoon is used to remove the food fro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tin. The amount of food removed has a distribution with mean 60 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nd standard deviation 4 g. Calculate the mean and standard devi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of the amount of food left in the tin after one spoonful is remov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Text Box 10"/>
          <p:cNvSpPr/>
          <p:nvPr/>
        </p:nvSpPr>
        <p:spPr>
          <a:xfrm>
            <a:off x="0" y="71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7.09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Rectangle 2"/>
          <p:cNvSpPr/>
          <p:nvPr/>
        </p:nvSpPr>
        <p:spPr>
          <a:xfrm>
            <a:off x="-12600" y="3645000"/>
            <a:ext cx="4057560" cy="322560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3"/>
          <p:cNvSpPr/>
          <p:nvPr/>
        </p:nvSpPr>
        <p:spPr>
          <a:xfrm>
            <a:off x="4046400" y="3645000"/>
            <a:ext cx="5097600" cy="2730240"/>
          </a:xfrm>
          <a:prstGeom prst="rect">
            <a:avLst/>
          </a:prstGeom>
          <a:solidFill>
            <a:srgbClr val="93f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Rectangle 4"/>
          <p:cNvSpPr/>
          <p:nvPr/>
        </p:nvSpPr>
        <p:spPr>
          <a:xfrm>
            <a:off x="4057560" y="6326280"/>
            <a:ext cx="2732040" cy="531720"/>
          </a:xfrm>
          <a:prstGeom prst="rect">
            <a:avLst/>
          </a:prstGeom>
          <a:solidFill>
            <a:srgbClr val="93f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Rectangle 9"/>
          <p:cNvSpPr/>
          <p:nvPr/>
        </p:nvSpPr>
        <p:spPr>
          <a:xfrm>
            <a:off x="611280" y="2059560"/>
            <a:ext cx="55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et the random variables involved b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Rectangle 10"/>
          <p:cNvSpPr/>
          <p:nvPr/>
        </p:nvSpPr>
        <p:spPr>
          <a:xfrm>
            <a:off x="611280" y="2445840"/>
            <a:ext cx="555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volume of tin cont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volume on spo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Rectangle 11"/>
          <p:cNvSpPr/>
          <p:nvPr/>
        </p:nvSpPr>
        <p:spPr>
          <a:xfrm>
            <a:off x="4214880" y="2506680"/>
            <a:ext cx="43210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Arial"/>
              </a:rPr>
              <a:t>Write an expression for the volume of food left in the tin once the spoonful is removed</a:t>
            </a:r>
            <a:r>
              <a:rPr b="1" i="1" lang="en-US" sz="2400" spc="-1" strike="noStrike">
                <a:solidFill>
                  <a:srgbClr val="ff3300"/>
                </a:solidFill>
                <a:latin typeface="Comic Sans MS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Rectangle 19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Rectangle 20"/>
          <p:cNvSpPr/>
          <p:nvPr/>
        </p:nvSpPr>
        <p:spPr>
          <a:xfrm>
            <a:off x="324000" y="-1080"/>
            <a:ext cx="88200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contents of a ti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of cat food have a distribution 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an 500 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standard deviation 6 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 A spoon is used to remove the food fro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tin. The amount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food remov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has a distribution 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an 60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standard deviation 4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Calculate the mean and standard deviation of the amount of food left in the tin after one spoonful is remove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Text Box 21"/>
          <p:cNvSpPr/>
          <p:nvPr/>
        </p:nvSpPr>
        <p:spPr>
          <a:xfrm>
            <a:off x="0" y="71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7.09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Rectangle 30"/>
          <p:cNvSpPr/>
          <p:nvPr/>
        </p:nvSpPr>
        <p:spPr>
          <a:xfrm>
            <a:off x="6411960" y="6326280"/>
            <a:ext cx="2732040" cy="531720"/>
          </a:xfrm>
          <a:prstGeom prst="rect">
            <a:avLst/>
          </a:prstGeom>
          <a:solidFill>
            <a:srgbClr val="93f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Rectangle 2"/>
          <p:cNvSpPr/>
          <p:nvPr/>
        </p:nvSpPr>
        <p:spPr>
          <a:xfrm>
            <a:off x="0" y="3632040"/>
            <a:ext cx="4057560" cy="322596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Rectangle 3"/>
          <p:cNvSpPr/>
          <p:nvPr/>
        </p:nvSpPr>
        <p:spPr>
          <a:xfrm>
            <a:off x="4046400" y="3645000"/>
            <a:ext cx="5097600" cy="2730240"/>
          </a:xfrm>
          <a:prstGeom prst="rect">
            <a:avLst/>
          </a:prstGeom>
          <a:solidFill>
            <a:srgbClr val="93f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Rectangle 4"/>
          <p:cNvSpPr/>
          <p:nvPr/>
        </p:nvSpPr>
        <p:spPr>
          <a:xfrm>
            <a:off x="4057560" y="6326280"/>
            <a:ext cx="2732040" cy="531720"/>
          </a:xfrm>
          <a:prstGeom prst="rect">
            <a:avLst/>
          </a:prstGeom>
          <a:solidFill>
            <a:srgbClr val="93f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Rectangle 9"/>
          <p:cNvSpPr/>
          <p:nvPr/>
        </p:nvSpPr>
        <p:spPr>
          <a:xfrm>
            <a:off x="611280" y="2059560"/>
            <a:ext cx="55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et the random variables involved b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Rectangle 10"/>
          <p:cNvSpPr/>
          <p:nvPr/>
        </p:nvSpPr>
        <p:spPr>
          <a:xfrm>
            <a:off x="611280" y="244584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volume of tin cont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volume on spo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–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volume of cat food remaining in ti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12"/>
          <p:cNvSpPr/>
          <p:nvPr/>
        </p:nvSpPr>
        <p:spPr>
          <a:xfrm>
            <a:off x="0" y="3666960"/>
            <a:ext cx="9144000" cy="41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3300"/>
                </a:solidFill>
                <a:latin typeface="Comic Sans MS"/>
                <a:ea typeface="Arial"/>
              </a:rPr>
              <a:t>Calculate the expected volume of cat food remaining – i.e. E[</a:t>
            </a:r>
            <a:r>
              <a:rPr b="1" i="1" lang="en-US" sz="2100" spc="-1" strike="noStrike">
                <a:solidFill>
                  <a:srgbClr val="ff3300"/>
                </a:solidFill>
                <a:latin typeface="Comic Sans MS"/>
                <a:ea typeface="Arial"/>
              </a:rPr>
              <a:t>X–Y</a:t>
            </a:r>
            <a:r>
              <a:rPr b="1" lang="en-US" sz="2100" spc="-1" strike="noStrike">
                <a:solidFill>
                  <a:srgbClr val="ff3300"/>
                </a:solidFill>
                <a:latin typeface="Comic Sans MS"/>
                <a:ea typeface="Arial"/>
              </a:rPr>
              <a:t>]</a:t>
            </a:r>
            <a:r>
              <a:rPr b="1" i="1" lang="en-US" sz="2100" spc="-1" strike="noStrike">
                <a:solidFill>
                  <a:srgbClr val="ff3300"/>
                </a:solidFill>
                <a:latin typeface="Comic Sans MS"/>
                <a:ea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Rectangle 19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Rectangle 20"/>
          <p:cNvSpPr/>
          <p:nvPr/>
        </p:nvSpPr>
        <p:spPr>
          <a:xfrm>
            <a:off x="324000" y="-1080"/>
            <a:ext cx="88200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contents of a ti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of cat food have a distribution 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an 500 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standard deviation 6 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 A spoon is used to remove the food fro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tin. The amount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food remov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has a distribution 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an 60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standard deviation 4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Calculate the mean and standard deviation of the amount of food left in the tin after one spoonful is remove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21"/>
          <p:cNvSpPr/>
          <p:nvPr/>
        </p:nvSpPr>
        <p:spPr>
          <a:xfrm>
            <a:off x="0" y="71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7.09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Rectangle 30"/>
          <p:cNvSpPr/>
          <p:nvPr/>
        </p:nvSpPr>
        <p:spPr>
          <a:xfrm>
            <a:off x="6411960" y="6326280"/>
            <a:ext cx="2732040" cy="531720"/>
          </a:xfrm>
          <a:prstGeom prst="rect">
            <a:avLst/>
          </a:prstGeom>
          <a:solidFill>
            <a:srgbClr val="93f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2"/>
          <p:cNvSpPr/>
          <p:nvPr/>
        </p:nvSpPr>
        <p:spPr>
          <a:xfrm>
            <a:off x="1693080" y="414864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– E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Rectangle 13"/>
          <p:cNvSpPr/>
          <p:nvPr/>
        </p:nvSpPr>
        <p:spPr>
          <a:xfrm>
            <a:off x="1404720" y="465192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500 – 60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27"/>
          <p:cNvSpPr/>
          <p:nvPr/>
        </p:nvSpPr>
        <p:spPr>
          <a:xfrm>
            <a:off x="1692360" y="5157720"/>
            <a:ext cx="934920" cy="5335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4"/>
          <p:cNvSpPr/>
          <p:nvPr/>
        </p:nvSpPr>
        <p:spPr>
          <a:xfrm>
            <a:off x="1403280" y="5156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40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5"/>
          <p:cNvSpPr/>
          <p:nvPr/>
        </p:nvSpPr>
        <p:spPr>
          <a:xfrm>
            <a:off x="285840" y="41032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–Y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2"/>
          <p:cNvSpPr/>
          <p:nvPr/>
        </p:nvSpPr>
        <p:spPr>
          <a:xfrm>
            <a:off x="0" y="5677920"/>
            <a:ext cx="4071960" cy="117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Mean = expected valu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So the mean volume remaining is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440g</a:t>
            </a:r>
            <a:r>
              <a:rPr b="1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Rectangle 2"/>
          <p:cNvSpPr/>
          <p:nvPr/>
        </p:nvSpPr>
        <p:spPr>
          <a:xfrm>
            <a:off x="-12600" y="3645000"/>
            <a:ext cx="4057560" cy="322560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3"/>
          <p:cNvSpPr/>
          <p:nvPr/>
        </p:nvSpPr>
        <p:spPr>
          <a:xfrm>
            <a:off x="4046400" y="3645000"/>
            <a:ext cx="5097600" cy="2730240"/>
          </a:xfrm>
          <a:prstGeom prst="rect">
            <a:avLst/>
          </a:prstGeom>
          <a:solidFill>
            <a:srgbClr val="93f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Rectangle 6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Rectangle 8"/>
          <p:cNvSpPr/>
          <p:nvPr/>
        </p:nvSpPr>
        <p:spPr>
          <a:xfrm>
            <a:off x="539640" y="2059560"/>
            <a:ext cx="55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et the random variables involved b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Rectangle 9"/>
          <p:cNvSpPr/>
          <p:nvPr/>
        </p:nvSpPr>
        <p:spPr>
          <a:xfrm>
            <a:off x="539640" y="2445840"/>
            <a:ext cx="803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volume of tin cont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volume on spo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–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volume of cat food remaining in ti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Rectangle 10"/>
          <p:cNvSpPr/>
          <p:nvPr/>
        </p:nvSpPr>
        <p:spPr>
          <a:xfrm>
            <a:off x="5724360" y="3691080"/>
            <a:ext cx="32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Arial"/>
              </a:rPr>
              <a:t>Calculate Var(</a:t>
            </a:r>
            <a:r>
              <a:rPr b="1" i="1" lang="en-US" sz="2400" spc="-1" strike="noStrike">
                <a:solidFill>
                  <a:srgbClr val="ff3300"/>
                </a:solidFill>
                <a:latin typeface="Comic Sans MS"/>
                <a:ea typeface="Arial"/>
              </a:rPr>
              <a:t>X–Y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Arial"/>
              </a:rPr>
              <a:t>)</a:t>
            </a:r>
            <a:r>
              <a:rPr b="1" i="1" lang="en-US" sz="2400" spc="-1" strike="noStrike">
                <a:solidFill>
                  <a:srgbClr val="ff3300"/>
                </a:solidFill>
                <a:latin typeface="Comic Sans MS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Rectangle 17"/>
          <p:cNvSpPr/>
          <p:nvPr/>
        </p:nvSpPr>
        <p:spPr>
          <a:xfrm>
            <a:off x="4057560" y="6326280"/>
            <a:ext cx="2732040" cy="531720"/>
          </a:xfrm>
          <a:prstGeom prst="rect">
            <a:avLst/>
          </a:prstGeom>
          <a:solidFill>
            <a:srgbClr val="93f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Rectangle 21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Rectangle 22"/>
          <p:cNvSpPr/>
          <p:nvPr/>
        </p:nvSpPr>
        <p:spPr>
          <a:xfrm>
            <a:off x="324000" y="-1080"/>
            <a:ext cx="88200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contents of a ti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of cat food have a distribution 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an 500 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standard deviation 6 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 A spoon is used to remove the food fro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tin. The amount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food remov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has a distribution 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an 60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standard deviation 4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Calculate the mean and standard deviation of the amount of food left in the tin after one spoonful is remove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Text Box 23"/>
          <p:cNvSpPr/>
          <p:nvPr/>
        </p:nvSpPr>
        <p:spPr>
          <a:xfrm>
            <a:off x="0" y="71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7.09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Rectangle 29"/>
          <p:cNvSpPr/>
          <p:nvPr/>
        </p:nvSpPr>
        <p:spPr>
          <a:xfrm>
            <a:off x="6411960" y="6326280"/>
            <a:ext cx="2732040" cy="531720"/>
          </a:xfrm>
          <a:prstGeom prst="rect">
            <a:avLst/>
          </a:prstGeom>
          <a:solidFill>
            <a:srgbClr val="93f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Rectangle 12"/>
          <p:cNvSpPr/>
          <p:nvPr/>
        </p:nvSpPr>
        <p:spPr>
          <a:xfrm>
            <a:off x="1693080" y="414864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– E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Rectangle 13"/>
          <p:cNvSpPr/>
          <p:nvPr/>
        </p:nvSpPr>
        <p:spPr>
          <a:xfrm>
            <a:off x="1404720" y="465192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500 – 60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Rectangle 27"/>
          <p:cNvSpPr/>
          <p:nvPr/>
        </p:nvSpPr>
        <p:spPr>
          <a:xfrm>
            <a:off x="1692360" y="5157720"/>
            <a:ext cx="934920" cy="5335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Rectangle 14"/>
          <p:cNvSpPr/>
          <p:nvPr/>
        </p:nvSpPr>
        <p:spPr>
          <a:xfrm>
            <a:off x="1403280" y="5156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40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15"/>
          <p:cNvSpPr/>
          <p:nvPr/>
        </p:nvSpPr>
        <p:spPr>
          <a:xfrm>
            <a:off x="285840" y="41032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–Y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Rectangle 12"/>
          <p:cNvSpPr/>
          <p:nvPr/>
        </p:nvSpPr>
        <p:spPr>
          <a:xfrm>
            <a:off x="0" y="5677920"/>
            <a:ext cx="4071960" cy="117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Mean = expected valu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So the mean volume remaining is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440g</a:t>
            </a:r>
            <a:r>
              <a:rPr b="1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Rectangle 2"/>
          <p:cNvSpPr/>
          <p:nvPr/>
        </p:nvSpPr>
        <p:spPr>
          <a:xfrm>
            <a:off x="-12600" y="3645000"/>
            <a:ext cx="4057560" cy="322560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Rectangle 3"/>
          <p:cNvSpPr/>
          <p:nvPr/>
        </p:nvSpPr>
        <p:spPr>
          <a:xfrm>
            <a:off x="4046400" y="3645000"/>
            <a:ext cx="5097600" cy="2730240"/>
          </a:xfrm>
          <a:prstGeom prst="rect">
            <a:avLst/>
          </a:prstGeom>
          <a:solidFill>
            <a:srgbClr val="93f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Rectangle 6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Rectangle 9"/>
          <p:cNvSpPr/>
          <p:nvPr/>
        </p:nvSpPr>
        <p:spPr>
          <a:xfrm>
            <a:off x="539640" y="2445840"/>
            <a:ext cx="810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volume of tin cont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volume on spo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–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= volume of cat food remaining in ti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Rectangle 10"/>
          <p:cNvSpPr/>
          <p:nvPr/>
        </p:nvSpPr>
        <p:spPr>
          <a:xfrm>
            <a:off x="4829040" y="5206680"/>
            <a:ext cx="27673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Arial"/>
              </a:rPr>
              <a:t>Calculate </a:t>
            </a:r>
            <a:r>
              <a:rPr b="1" i="1" lang="el-GR" sz="2800" spc="-1" strike="noStrike">
                <a:solidFill>
                  <a:srgbClr val="ff3300"/>
                </a:solidFill>
                <a:latin typeface="Times New Roman"/>
                <a:ea typeface="Arial"/>
              </a:rPr>
              <a:t>σ</a:t>
            </a:r>
            <a:r>
              <a:rPr b="1" i="1" lang="en-US" sz="2400" spc="-1" strike="noStrike" baseline="-25000">
                <a:solidFill>
                  <a:srgbClr val="ff3300"/>
                </a:solidFill>
                <a:latin typeface="Times New Roman"/>
                <a:ea typeface="Arial"/>
              </a:rPr>
              <a:t>X–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Rectangle 20"/>
          <p:cNvSpPr/>
          <p:nvPr/>
        </p:nvSpPr>
        <p:spPr>
          <a:xfrm>
            <a:off x="4057560" y="6326280"/>
            <a:ext cx="2732040" cy="531720"/>
          </a:xfrm>
          <a:prstGeom prst="rect">
            <a:avLst/>
          </a:prstGeom>
          <a:solidFill>
            <a:srgbClr val="93f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Rectangle 24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Rectangle 25"/>
          <p:cNvSpPr/>
          <p:nvPr/>
        </p:nvSpPr>
        <p:spPr>
          <a:xfrm>
            <a:off x="324000" y="-1080"/>
            <a:ext cx="88200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contents of a ti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of cat food have a distribution 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an 500 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standard deviation 6 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 A spoon is used to remove the food fro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tin. The amount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food remov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has a distribution 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an 60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standard deviation 4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Calculate the mean and standard deviation of the amount of food left in the tin after one spoonful is remove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Text Box 26"/>
          <p:cNvSpPr/>
          <p:nvPr/>
        </p:nvSpPr>
        <p:spPr>
          <a:xfrm>
            <a:off x="0" y="71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7.09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Rectangle 8"/>
          <p:cNvSpPr/>
          <p:nvPr/>
        </p:nvSpPr>
        <p:spPr>
          <a:xfrm>
            <a:off x="539640" y="2059560"/>
            <a:ext cx="55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et the random variables involved b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Rectangle 32"/>
          <p:cNvSpPr/>
          <p:nvPr/>
        </p:nvSpPr>
        <p:spPr>
          <a:xfrm>
            <a:off x="6411960" y="6326280"/>
            <a:ext cx="2732040" cy="531720"/>
          </a:xfrm>
          <a:prstGeom prst="rect">
            <a:avLst/>
          </a:prstGeom>
          <a:solidFill>
            <a:srgbClr val="93f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Rectangle 12"/>
          <p:cNvSpPr/>
          <p:nvPr/>
        </p:nvSpPr>
        <p:spPr>
          <a:xfrm>
            <a:off x="1693080" y="414864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– E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Rectangle 13"/>
          <p:cNvSpPr/>
          <p:nvPr/>
        </p:nvSpPr>
        <p:spPr>
          <a:xfrm>
            <a:off x="1404720" y="465192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500 – 60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Rectangle 16"/>
          <p:cNvSpPr/>
          <p:nvPr/>
        </p:nvSpPr>
        <p:spPr>
          <a:xfrm>
            <a:off x="5899680" y="359928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ar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Var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Rectangle 17"/>
          <p:cNvSpPr/>
          <p:nvPr/>
        </p:nvSpPr>
        <p:spPr>
          <a:xfrm>
            <a:off x="5695560" y="4158000"/>
            <a:ext cx="13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6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Rectangle 18"/>
          <p:cNvSpPr/>
          <p:nvPr/>
        </p:nvSpPr>
        <p:spPr>
          <a:xfrm>
            <a:off x="5720760" y="467892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9040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5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Rectangle 19"/>
          <p:cNvSpPr/>
          <p:nvPr/>
        </p:nvSpPr>
        <p:spPr>
          <a:xfrm>
            <a:off x="4349160" y="3573000"/>
            <a:ext cx="175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ar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–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 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Rectangle 27"/>
          <p:cNvSpPr/>
          <p:nvPr/>
        </p:nvSpPr>
        <p:spPr>
          <a:xfrm>
            <a:off x="1692360" y="5157720"/>
            <a:ext cx="934920" cy="5335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Rectangle 14"/>
          <p:cNvSpPr/>
          <p:nvPr/>
        </p:nvSpPr>
        <p:spPr>
          <a:xfrm>
            <a:off x="1403280" y="5156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40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Rectangle 15"/>
          <p:cNvSpPr/>
          <p:nvPr/>
        </p:nvSpPr>
        <p:spPr>
          <a:xfrm>
            <a:off x="285840" y="41032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–Y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Rectangle 12"/>
          <p:cNvSpPr/>
          <p:nvPr/>
        </p:nvSpPr>
        <p:spPr>
          <a:xfrm>
            <a:off x="0" y="5677920"/>
            <a:ext cx="4071960" cy="117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Mean = expected valu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So the mean volume remaining is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440g</a:t>
            </a:r>
            <a:r>
              <a:rPr b="1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2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easur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values can it take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Rectangle 2"/>
          <p:cNvSpPr/>
          <p:nvPr/>
        </p:nvSpPr>
        <p:spPr>
          <a:xfrm>
            <a:off x="4046400" y="3645000"/>
            <a:ext cx="5097600" cy="2730240"/>
          </a:xfrm>
          <a:prstGeom prst="rect">
            <a:avLst/>
          </a:prstGeom>
          <a:solidFill>
            <a:srgbClr val="93f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Rectangle 3"/>
          <p:cNvSpPr/>
          <p:nvPr/>
        </p:nvSpPr>
        <p:spPr>
          <a:xfrm>
            <a:off x="6012000" y="5734080"/>
            <a:ext cx="2163600" cy="5335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Rectangle 4"/>
          <p:cNvSpPr/>
          <p:nvPr/>
        </p:nvSpPr>
        <p:spPr>
          <a:xfrm>
            <a:off x="-12600" y="3645000"/>
            <a:ext cx="4057560" cy="3225600"/>
          </a:xfrm>
          <a:prstGeom prst="rect">
            <a:avLst/>
          </a:prstGeom>
          <a:solidFill>
            <a:srgbClr val="d3e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7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Rectangle 9"/>
          <p:cNvSpPr/>
          <p:nvPr/>
        </p:nvSpPr>
        <p:spPr>
          <a:xfrm>
            <a:off x="539640" y="2059560"/>
            <a:ext cx="55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et the random variables involved b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Rectangle 10"/>
          <p:cNvSpPr/>
          <p:nvPr/>
        </p:nvSpPr>
        <p:spPr>
          <a:xfrm>
            <a:off x="539640" y="2445840"/>
            <a:ext cx="824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volume of tin cont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volume on spo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–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volume of cat food remaining in ti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Rectangle 12"/>
          <p:cNvSpPr/>
          <p:nvPr/>
        </p:nvSpPr>
        <p:spPr>
          <a:xfrm>
            <a:off x="1693080" y="414864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– E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Rectangle 13"/>
          <p:cNvSpPr/>
          <p:nvPr/>
        </p:nvSpPr>
        <p:spPr>
          <a:xfrm>
            <a:off x="1404720" y="465192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500 – 60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Rectangle 15"/>
          <p:cNvSpPr/>
          <p:nvPr/>
        </p:nvSpPr>
        <p:spPr>
          <a:xfrm>
            <a:off x="285840" y="41032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–Y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Rectangle 16"/>
          <p:cNvSpPr/>
          <p:nvPr/>
        </p:nvSpPr>
        <p:spPr>
          <a:xfrm>
            <a:off x="5899680" y="359928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ar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Var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Rectangle 17"/>
          <p:cNvSpPr/>
          <p:nvPr/>
        </p:nvSpPr>
        <p:spPr>
          <a:xfrm>
            <a:off x="5695560" y="4158000"/>
            <a:ext cx="13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6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Rectangle 18"/>
          <p:cNvSpPr/>
          <p:nvPr/>
        </p:nvSpPr>
        <p:spPr>
          <a:xfrm>
            <a:off x="5720760" y="467892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9040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5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Rectangle 19"/>
          <p:cNvSpPr/>
          <p:nvPr/>
        </p:nvSpPr>
        <p:spPr>
          <a:xfrm>
            <a:off x="4349160" y="3573000"/>
            <a:ext cx="175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ar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–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 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Rectangle 20"/>
          <p:cNvSpPr/>
          <p:nvPr/>
        </p:nvSpPr>
        <p:spPr>
          <a:xfrm>
            <a:off x="5006880" y="5196600"/>
            <a:ext cx="117144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X–Y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Rectangle 21"/>
          <p:cNvSpPr/>
          <p:nvPr/>
        </p:nvSpPr>
        <p:spPr>
          <a:xfrm>
            <a:off x="5643720" y="573300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7.211 g   (4 sf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9" name="Object 22"/>
          <p:cNvGraphicFramePr/>
          <p:nvPr/>
        </p:nvGraphicFramePr>
        <p:xfrm>
          <a:off x="5923080" y="5330880"/>
          <a:ext cx="57780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0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3080" y="5330880"/>
                    <a:ext cx="5778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1" name="Rectangle 27"/>
          <p:cNvSpPr/>
          <p:nvPr/>
        </p:nvSpPr>
        <p:spPr>
          <a:xfrm>
            <a:off x="1692360" y="5157720"/>
            <a:ext cx="934920" cy="5335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Rectangle 23"/>
          <p:cNvSpPr/>
          <p:nvPr/>
        </p:nvSpPr>
        <p:spPr>
          <a:xfrm>
            <a:off x="4057560" y="6326280"/>
            <a:ext cx="2732040" cy="531720"/>
          </a:xfrm>
          <a:prstGeom prst="rect">
            <a:avLst/>
          </a:prstGeom>
          <a:solidFill>
            <a:srgbClr val="93f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Rectangle 24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Rectangle 25"/>
          <p:cNvSpPr/>
          <p:nvPr/>
        </p:nvSpPr>
        <p:spPr>
          <a:xfrm>
            <a:off x="324000" y="-1080"/>
            <a:ext cx="88200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contents of a ti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of cat food have a distribution 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an 500 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standard deviation 6 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 A spoon is used to remove the food fro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tin. The amount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food remov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has a distribution 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ean 60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standard deviation 4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Calculate the mean and standard deviation of the amount of food left in the tin after one spoonful is remove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Text Box 26"/>
          <p:cNvSpPr/>
          <p:nvPr/>
        </p:nvSpPr>
        <p:spPr>
          <a:xfrm>
            <a:off x="0" y="71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7.09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Rectangle 14"/>
          <p:cNvSpPr/>
          <p:nvPr/>
        </p:nvSpPr>
        <p:spPr>
          <a:xfrm>
            <a:off x="1403280" y="5156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40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Rectangle 28"/>
          <p:cNvSpPr/>
          <p:nvPr/>
        </p:nvSpPr>
        <p:spPr>
          <a:xfrm>
            <a:off x="6411960" y="6326280"/>
            <a:ext cx="2732040" cy="531720"/>
          </a:xfrm>
          <a:prstGeom prst="rect">
            <a:avLst/>
          </a:prstGeom>
          <a:solidFill>
            <a:srgbClr val="93ff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Text Box 28"/>
          <p:cNvSpPr/>
          <p:nvPr/>
        </p:nvSpPr>
        <p:spPr>
          <a:xfrm>
            <a:off x="3857760" y="2286000"/>
            <a:ext cx="5286240" cy="1008720"/>
          </a:xfrm>
          <a:prstGeom prst="rect">
            <a:avLst/>
          </a:prstGeom>
          <a:solidFill>
            <a:srgbClr val="ffffff"/>
          </a:solidFill>
          <a:ln w="85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o NuLake pg. 169 (Q187, 188 onl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n Sigma (old) – pg. 4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x. 2.9 (skip Q2) – FINISH FOR H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Rectangle 12"/>
          <p:cNvSpPr/>
          <p:nvPr/>
        </p:nvSpPr>
        <p:spPr>
          <a:xfrm>
            <a:off x="0" y="5677920"/>
            <a:ext cx="4071960" cy="117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Mean = expected valu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So the mean volume remaining is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440g</a:t>
            </a:r>
            <a:r>
              <a:rPr b="1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Rectangle 12"/>
          <p:cNvSpPr/>
          <p:nvPr/>
        </p:nvSpPr>
        <p:spPr>
          <a:xfrm>
            <a:off x="4143240" y="6121800"/>
            <a:ext cx="5000760" cy="73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So the standard deviation of the remaining volume is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7.211g (4SF)</a:t>
            </a:r>
            <a:r>
              <a:rPr b="1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571680" y="609120"/>
            <a:ext cx="8215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NZ" sz="3600" spc="-1" strike="noStrike">
                <a:solidFill>
                  <a:srgbClr val="000000"/>
                </a:solidFill>
                <a:latin typeface="Times New Roman"/>
              </a:rPr>
              <a:t>Extension work– Linear combinations of 2 random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428400" y="1980720"/>
            <a:ext cx="871524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oint of tod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How to calculate the mean, variance (and standard deviation) of a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linear combination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of 2 independent random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Go over HW q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Notes &amp; examp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Do Sigma (old – 2</a:t>
            </a:r>
            <a:r>
              <a:rPr b="0" lang="en-NZ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 edition) – pg. 42 &amp; 43: Ex. 2.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Times New Roman"/>
              </a:rPr>
              <a:t>Extension:  NuLake p169 &amp; 170:  Questions 189-19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Times New Roman"/>
              </a:rPr>
              <a:t>DO NOT DO Q195 on (not covered ye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Rectangle 6"/>
          <p:cNvSpPr/>
          <p:nvPr/>
        </p:nvSpPr>
        <p:spPr>
          <a:xfrm>
            <a:off x="250920" y="557280"/>
            <a:ext cx="8893080" cy="60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AR COMBINATIONS OF INDEPENDENT RANDOM VARIAB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Text Box 7"/>
          <p:cNvSpPr/>
          <p:nvPr/>
        </p:nvSpPr>
        <p:spPr>
          <a:xfrm>
            <a:off x="1643040" y="1571760"/>
            <a:ext cx="530388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9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Distribution of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Text Box 8"/>
          <p:cNvSpPr/>
          <p:nvPr/>
        </p:nvSpPr>
        <p:spPr>
          <a:xfrm>
            <a:off x="1116000" y="2428920"/>
            <a:ext cx="734544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mean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(a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.E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 + b.E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Text Box 9"/>
          <p:cNvSpPr/>
          <p:nvPr/>
        </p:nvSpPr>
        <p:spPr>
          <a:xfrm>
            <a:off x="179280" y="3149640"/>
            <a:ext cx="874872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variance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ar(a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 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 + b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Text Box 10"/>
          <p:cNvSpPr/>
          <p:nvPr/>
        </p:nvSpPr>
        <p:spPr>
          <a:xfrm>
            <a:off x="0" y="3941640"/>
            <a:ext cx="9144000" cy="7495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std. deviation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σ</a:t>
            </a:r>
            <a:r>
              <a:rPr b="1" lang="en-NZ" sz="2800" spc="-1" strike="noStrike" baseline="-25000">
                <a:solidFill>
                  <a:srgbClr val="000000"/>
                </a:solidFill>
                <a:latin typeface="Comic Sans MS"/>
              </a:rPr>
              <a:t>aX+b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8" name="Object 11"/>
              <p:cNvSpPr txBox="1"/>
              <p:nvPr/>
            </p:nvSpPr>
            <p:spPr>
              <a:xfrm>
                <a:off x="4878360" y="4013280"/>
                <a:ext cx="41403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69" name="Rectangle 4"/>
          <p:cNvSpPr/>
          <p:nvPr/>
        </p:nvSpPr>
        <p:spPr>
          <a:xfrm>
            <a:off x="0" y="4857840"/>
            <a:ext cx="9144000" cy="20001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Rectangle 8"/>
          <p:cNvSpPr/>
          <p:nvPr/>
        </p:nvSpPr>
        <p:spPr>
          <a:xfrm>
            <a:off x="425520" y="4749480"/>
            <a:ext cx="817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re independent random variables.  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20, 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3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a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3 and Va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4.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lculate: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E(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Var(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ar(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Rectangle 6"/>
          <p:cNvSpPr/>
          <p:nvPr/>
        </p:nvSpPr>
        <p:spPr>
          <a:xfrm>
            <a:off x="250920" y="189000"/>
            <a:ext cx="8893080" cy="60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AR COMBINATIONS OF INDEPENDENT RANDOM VARIAB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Text Box 7"/>
          <p:cNvSpPr/>
          <p:nvPr/>
        </p:nvSpPr>
        <p:spPr>
          <a:xfrm>
            <a:off x="1714680" y="1197000"/>
            <a:ext cx="508932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9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Distribution of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Text Box 8"/>
          <p:cNvSpPr/>
          <p:nvPr/>
        </p:nvSpPr>
        <p:spPr>
          <a:xfrm>
            <a:off x="1116000" y="2060640"/>
            <a:ext cx="734544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mean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(a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.E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 + b.E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Text Box 9"/>
          <p:cNvSpPr/>
          <p:nvPr/>
        </p:nvSpPr>
        <p:spPr>
          <a:xfrm>
            <a:off x="179280" y="2781360"/>
            <a:ext cx="874872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variance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ar(a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 a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 + b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Rectangle 12"/>
          <p:cNvSpPr/>
          <p:nvPr/>
        </p:nvSpPr>
        <p:spPr>
          <a:xfrm>
            <a:off x="0" y="4243320"/>
            <a:ext cx="9144000" cy="2614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Text Box 10"/>
          <p:cNvSpPr/>
          <p:nvPr/>
        </p:nvSpPr>
        <p:spPr>
          <a:xfrm>
            <a:off x="0" y="3573360"/>
            <a:ext cx="9144000" cy="7495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ts std. deviation 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</a:rPr>
              <a:t>σ</a:t>
            </a:r>
            <a:r>
              <a:rPr b="1" lang="en-NZ" sz="2800" spc="-1" strike="noStrike" baseline="-25000">
                <a:solidFill>
                  <a:srgbClr val="000000"/>
                </a:solidFill>
                <a:latin typeface="Comic Sans MS"/>
              </a:rPr>
              <a:t>aX+b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Rectangle 13"/>
          <p:cNvSpPr/>
          <p:nvPr/>
        </p:nvSpPr>
        <p:spPr>
          <a:xfrm>
            <a:off x="415800" y="4419720"/>
            <a:ext cx="86817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.g. A battery retailer sells surplus trade-in batteries to a scrap-met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nufacturer. The retailer receives $50 per kg for the lead conte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nd $20 per litre for the sulphuric acid content of each battery. For 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attery, the quantities of recoverable lead and sulphuric acid a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ependent random variables, with standard deviations 30 g (0.03 kg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nd 10 mL (0.01 L) respectively. What is the standard deviation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amount received for each battery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9" name="Object 11"/>
              <p:cNvSpPr txBox="1"/>
              <p:nvPr/>
            </p:nvSpPr>
            <p:spPr>
              <a:xfrm>
                <a:off x="4878360" y="3645000"/>
                <a:ext cx="41403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80" name="Text Box 14"/>
          <p:cNvSpPr/>
          <p:nvPr/>
        </p:nvSpPr>
        <p:spPr>
          <a:xfrm>
            <a:off x="0" y="436572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7.1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1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1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1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1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1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1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2"/>
          <p:cNvSpPr/>
          <p:nvPr/>
        </p:nvSpPr>
        <p:spPr>
          <a:xfrm>
            <a:off x="0" y="0"/>
            <a:ext cx="9144000" cy="2614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7.1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Rectangle 5"/>
          <p:cNvSpPr/>
          <p:nvPr/>
        </p:nvSpPr>
        <p:spPr>
          <a:xfrm>
            <a:off x="378000" y="187560"/>
            <a:ext cx="86817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.g. A battery retailer sells surplus trade-in batteries to a scrap-met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nufacturer. The retailer receives $50 per kg for the lead conte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nd $20 per litre for the sulphuric acid content of each battery. For 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attery, the quantities of recoverable lead and sulphuric acid a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ependent random variables, with standard deviations 30 g (0.03 kg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nd 10 mL (0.01 L) respectively. What is the standard deviation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amount received for each battery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Rectangle 6"/>
          <p:cNvSpPr/>
          <p:nvPr/>
        </p:nvSpPr>
        <p:spPr>
          <a:xfrm>
            <a:off x="3759120" y="616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Rectangle 2"/>
          <p:cNvSpPr/>
          <p:nvPr/>
        </p:nvSpPr>
        <p:spPr>
          <a:xfrm>
            <a:off x="2143080" y="6389640"/>
            <a:ext cx="3000600" cy="46836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"/>
          <p:cNvSpPr/>
          <p:nvPr/>
        </p:nvSpPr>
        <p:spPr>
          <a:xfrm>
            <a:off x="0" y="0"/>
            <a:ext cx="9144000" cy="2614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Text Box 4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7.1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Rectangle 7"/>
          <p:cNvSpPr/>
          <p:nvPr/>
        </p:nvSpPr>
        <p:spPr>
          <a:xfrm>
            <a:off x="3759120" y="616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Rectangle 8"/>
          <p:cNvSpPr/>
          <p:nvPr/>
        </p:nvSpPr>
        <p:spPr>
          <a:xfrm>
            <a:off x="409680" y="2553840"/>
            <a:ext cx="85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Let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be the content of lead in kg </a:t>
            </a: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    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be the content in litres of acid recoverable from each battery </a:t>
            </a: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     50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+20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 gives the total refu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Rectangle 12"/>
          <p:cNvSpPr/>
          <p:nvPr/>
        </p:nvSpPr>
        <p:spPr>
          <a:xfrm>
            <a:off x="5643720" y="4286880"/>
            <a:ext cx="35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  <a:ea typeface="Arial"/>
              </a:rPr>
              <a:t>Calculate Var(50</a:t>
            </a:r>
            <a:r>
              <a:rPr b="1" i="1" lang="en-US" sz="2000" spc="-1" strike="noStrike">
                <a:solidFill>
                  <a:srgbClr val="ff3300"/>
                </a:solidFill>
                <a:latin typeface="Comic Sans MS"/>
                <a:ea typeface="Arial"/>
              </a:rPr>
              <a:t>X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  <a:ea typeface="Arial"/>
              </a:rPr>
              <a:t> + 20</a:t>
            </a:r>
            <a:r>
              <a:rPr b="1" i="1" lang="en-US" sz="2000" spc="-1" strike="noStrike">
                <a:solidFill>
                  <a:srgbClr val="ff3300"/>
                </a:solidFill>
                <a:latin typeface="Comic Sans MS"/>
                <a:ea typeface="Arial"/>
              </a:rPr>
              <a:t>Y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  <a:ea typeface="Arial"/>
              </a:rPr>
              <a:t>)</a:t>
            </a:r>
            <a:r>
              <a:rPr b="1" i="1" lang="en-US" sz="2000" spc="-1" strike="noStrike">
                <a:solidFill>
                  <a:srgbClr val="ff3300"/>
                </a:solidFill>
                <a:latin typeface="Comic Sans MS"/>
                <a:ea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Rectangle 13"/>
          <p:cNvSpPr/>
          <p:nvPr/>
        </p:nvSpPr>
        <p:spPr>
          <a:xfrm>
            <a:off x="-5760" y="4215960"/>
            <a:ext cx="23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ar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0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+20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14"/>
          <p:cNvSpPr/>
          <p:nvPr/>
        </p:nvSpPr>
        <p:spPr>
          <a:xfrm>
            <a:off x="2181240" y="4644000"/>
            <a:ext cx="37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2500 Var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+ 400 Var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15"/>
          <p:cNvSpPr/>
          <p:nvPr/>
        </p:nvSpPr>
        <p:spPr>
          <a:xfrm>
            <a:off x="2119680" y="5059800"/>
            <a:ext cx="39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9040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250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0.0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40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0.0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16"/>
          <p:cNvSpPr/>
          <p:nvPr/>
        </p:nvSpPr>
        <p:spPr>
          <a:xfrm>
            <a:off x="2182320" y="5475960"/>
            <a:ext cx="103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2.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17"/>
          <p:cNvSpPr/>
          <p:nvPr/>
        </p:nvSpPr>
        <p:spPr>
          <a:xfrm>
            <a:off x="5214960" y="5902920"/>
            <a:ext cx="30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Arial"/>
              </a:rPr>
              <a:t>Calculate </a:t>
            </a:r>
            <a:r>
              <a:rPr b="1" i="1" lang="el-GR" sz="2400" spc="-1" strike="noStrike">
                <a:solidFill>
                  <a:srgbClr val="ff3300"/>
                </a:solidFill>
                <a:latin typeface="Times New Roman"/>
                <a:ea typeface="Arial"/>
              </a:rPr>
              <a:t>σ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Comic Sans MS"/>
                <a:ea typeface="Arial"/>
              </a:rPr>
              <a:t>50</a:t>
            </a:r>
            <a:r>
              <a:rPr b="1" i="1" lang="en-US" sz="2400" spc="-1" strike="noStrike" baseline="-25000">
                <a:solidFill>
                  <a:srgbClr val="ff3300"/>
                </a:solidFill>
                <a:latin typeface="Comic Sans MS"/>
                <a:ea typeface="Arial"/>
              </a:rPr>
              <a:t>X 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Comic Sans MS"/>
                <a:ea typeface="Arial"/>
              </a:rPr>
              <a:t>+ 20</a:t>
            </a:r>
            <a:r>
              <a:rPr b="1" i="1" lang="en-US" sz="2400" spc="-1" strike="noStrike" baseline="-25000">
                <a:solidFill>
                  <a:srgbClr val="ff3300"/>
                </a:solidFill>
                <a:latin typeface="Comic Sans MS"/>
                <a:ea typeface="Arial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18"/>
          <p:cNvSpPr/>
          <p:nvPr/>
        </p:nvSpPr>
        <p:spPr>
          <a:xfrm>
            <a:off x="990000" y="5839560"/>
            <a:ext cx="170604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50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X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+20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=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9" name="Object 19"/>
          <p:cNvGraphicFramePr/>
          <p:nvPr/>
        </p:nvGraphicFramePr>
        <p:xfrm>
          <a:off x="2443320" y="6006960"/>
          <a:ext cx="81900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3320" y="6006960"/>
                    <a:ext cx="8190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1" name="Rectangle 20"/>
          <p:cNvSpPr/>
          <p:nvPr/>
        </p:nvSpPr>
        <p:spPr>
          <a:xfrm>
            <a:off x="2147400" y="6399720"/>
            <a:ext cx="303984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$1.5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(nearest cen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Rectangle 21"/>
          <p:cNvSpPr/>
          <p:nvPr/>
        </p:nvSpPr>
        <p:spPr>
          <a:xfrm>
            <a:off x="2442240" y="4226400"/>
            <a:ext cx="29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9040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a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+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a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Rectangle 23"/>
          <p:cNvSpPr/>
          <p:nvPr/>
        </p:nvSpPr>
        <p:spPr>
          <a:xfrm>
            <a:off x="262440" y="187560"/>
            <a:ext cx="89132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.g. A battery retailer sells surplus trade-in batteries to a scrap-met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nufacturer. The retailer receiv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$50 per k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for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ea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conte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$20 per lit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for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sulphuric acid cont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of each battery. For 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attery, the quantities of recoverable lead and sulphuric acid a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ependent random variables, 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standard deviations 30 g (0.03 kg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10 mL (0.01 L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respectively.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  <a:ea typeface="Arial Unicode MS"/>
              </a:rPr>
              <a:t>What is the standard deviation of </a:t>
            </a:r>
            <a:br>
              <a:rPr sz="2000"/>
            </a:b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  <a:ea typeface="Arial Unicode MS"/>
              </a:rPr>
              <a:t>the amount received for each battery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Text Box 28"/>
          <p:cNvSpPr/>
          <p:nvPr/>
        </p:nvSpPr>
        <p:spPr>
          <a:xfrm>
            <a:off x="500040" y="357120"/>
            <a:ext cx="7858080" cy="1800360"/>
          </a:xfrm>
          <a:prstGeom prst="rect">
            <a:avLst/>
          </a:prstGeom>
          <a:solidFill>
            <a:srgbClr val="ffffff"/>
          </a:solidFill>
          <a:ln w="85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Do Sigma (old) pg. 42 &amp; 43: Ex. 2.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Extension: Once you’ve finished thi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Do NuLake p169</a:t>
            </a:r>
            <a:r>
              <a:rPr b="1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170 – Q189-194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6" dur="indefinite" restart="never" nodeType="tmRoot">
          <p:childTnLst>
            <p:seq>
              <p:cTn id="1307" dur="indefinite" nodeType="mainSeq">
                <p:childTnLst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nodeType="clickEffect" fill="hold">
                      <p:stCondLst>
                        <p:cond delay="indefinite"/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Times New Roman"/>
              </a:rPr>
              <a:t>LESSON 7 – Difference between Sums and Linear Combinations of independent random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 txBox="1"/>
          <p:nvPr/>
        </p:nvSpPr>
        <p:spPr>
          <a:xfrm>
            <a:off x="428400" y="1980720"/>
            <a:ext cx="871524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To do tod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TARTER: HANDOUT TO GO WITH IT - Sigma coin-tossing investigation (new – Ex. 7.08, old – Ex. 2.8) + Chicken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inish Sigma Ex. 2.10 (7.10 in new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NuLake pg. 169, 170 – Q188</a:t>
            </a:r>
            <a:r>
              <a:rPr b="0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194 on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Then past Probability exams (AS9064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Rectangle 2"/>
          <p:cNvSpPr/>
          <p:nvPr/>
        </p:nvSpPr>
        <p:spPr>
          <a:xfrm>
            <a:off x="0" y="0"/>
            <a:ext cx="9144000" cy="385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Rectangle 6"/>
          <p:cNvSpPr/>
          <p:nvPr/>
        </p:nvSpPr>
        <p:spPr>
          <a:xfrm>
            <a:off x="3759120" y="616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Rectangle 5"/>
          <p:cNvSpPr/>
          <p:nvPr/>
        </p:nvSpPr>
        <p:spPr>
          <a:xfrm>
            <a:off x="261000" y="375120"/>
            <a:ext cx="876996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inear functions of a random variable vs sums of identical vari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Rectangle 5"/>
          <p:cNvSpPr/>
          <p:nvPr/>
        </p:nvSpPr>
        <p:spPr>
          <a:xfrm>
            <a:off x="12600" y="968040"/>
            <a:ext cx="89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XAMPLE 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onsider tossing a fair six-sided die.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is the number on the top face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Rectangle 5"/>
          <p:cNvSpPr/>
          <p:nvPr/>
        </p:nvSpPr>
        <p:spPr>
          <a:xfrm>
            <a:off x="73080" y="1735560"/>
            <a:ext cx="892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1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alculate th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ean and varianc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of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3" name=""/>
          <p:cNvGraphicFramePr/>
          <p:nvPr/>
        </p:nvGraphicFramePr>
        <p:xfrm>
          <a:off x="195120" y="2549520"/>
          <a:ext cx="7128000" cy="1308240"/>
        </p:xfrm>
        <a:graphic>
          <a:graphicData uri="http://schemas.openxmlformats.org/drawingml/2006/table">
            <a:tbl>
              <a:tblPr/>
              <a:tblGrid>
                <a:gridCol w="1079640"/>
                <a:gridCol w="936720"/>
                <a:gridCol w="934920"/>
                <a:gridCol w="1008000"/>
                <a:gridCol w="1008000"/>
                <a:gridCol w="1081080"/>
                <a:gridCol w="1079640"/>
              </a:tblGrid>
              <a:tr h="393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X = x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014" name="Picture 13" descr=""/>
          <p:cNvPicPr/>
          <p:nvPr/>
        </p:nvPicPr>
        <p:blipFill>
          <a:blip r:embed="rId1"/>
          <a:stretch/>
        </p:blipFill>
        <p:spPr>
          <a:xfrm>
            <a:off x="65160" y="4221000"/>
            <a:ext cx="9986760" cy="2637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15" name="Object 1"/>
              <p:cNvSpPr txBox="1"/>
              <p:nvPr/>
            </p:nvSpPr>
            <p:spPr>
              <a:xfrm>
                <a:off x="1527120" y="3038400"/>
                <a:ext cx="2872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6" name="Object 2"/>
              <p:cNvSpPr txBox="1"/>
              <p:nvPr/>
            </p:nvSpPr>
            <p:spPr>
              <a:xfrm>
                <a:off x="2463840" y="3057480"/>
                <a:ext cx="2872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7" name="Object 3"/>
              <p:cNvSpPr txBox="1"/>
              <p:nvPr/>
            </p:nvSpPr>
            <p:spPr>
              <a:xfrm>
                <a:off x="3451320" y="3060720"/>
                <a:ext cx="2872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8" name="Object 4"/>
              <p:cNvSpPr txBox="1"/>
              <p:nvPr/>
            </p:nvSpPr>
            <p:spPr>
              <a:xfrm>
                <a:off x="4481640" y="3089160"/>
                <a:ext cx="2872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9" name="Object 5"/>
              <p:cNvSpPr txBox="1"/>
              <p:nvPr/>
            </p:nvSpPr>
            <p:spPr>
              <a:xfrm>
                <a:off x="5559480" y="3057480"/>
                <a:ext cx="2872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0" name="Object 6"/>
              <p:cNvSpPr txBox="1"/>
              <p:nvPr/>
            </p:nvSpPr>
            <p:spPr>
              <a:xfrm>
                <a:off x="6537240" y="3076560"/>
                <a:ext cx="2872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1" name="TextBox 19"/>
          <p:cNvSpPr/>
          <p:nvPr/>
        </p:nvSpPr>
        <p:spPr>
          <a:xfrm>
            <a:off x="1295280" y="4035600"/>
            <a:ext cx="93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2" name="Object 20"/>
              <p:cNvSpPr txBox="1"/>
              <p:nvPr/>
            </p:nvSpPr>
            <p:spPr>
              <a:xfrm>
                <a:off x="5079960" y="3855960"/>
                <a:ext cx="5666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3" name="Object 7"/>
              <p:cNvSpPr txBox="1"/>
              <p:nvPr/>
            </p:nvSpPr>
            <p:spPr>
              <a:xfrm>
                <a:off x="1014480" y="5043600"/>
                <a:ext cx="12222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4" name="Object 8"/>
              <p:cNvSpPr txBox="1"/>
              <p:nvPr/>
            </p:nvSpPr>
            <p:spPr>
              <a:xfrm>
                <a:off x="957240" y="5527800"/>
                <a:ext cx="10987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5" name="Object 9"/>
              <p:cNvSpPr txBox="1"/>
              <p:nvPr/>
            </p:nvSpPr>
            <p:spPr>
              <a:xfrm>
                <a:off x="1090440" y="6246720"/>
                <a:ext cx="763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6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6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nodeType="clickEffect" fill="hold">
                      <p:stCondLst>
                        <p:cond delay="indefinite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nodeType="clickEffect" fill="hold">
                      <p:stCondLst>
                        <p:cond delay="indefinite"/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nodeType="clickEffect" fill="hold">
                      <p:stCondLst>
                        <p:cond delay="indefinite"/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nodeType="clickEffect" fill="hold">
                      <p:stCondLst>
                        <p:cond delay="indefinite"/>
                      </p:stCondLst>
                      <p:childTnLst>
                        <p:par>
                          <p:cTn id="1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nodeType="clickEffect" fill="hold">
                      <p:stCondLst>
                        <p:cond delay="indefinite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nodeType="clickEffect" fill="hold">
                      <p:stCondLst>
                        <p:cond delay="indefinite"/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nodeType="clickEffect" fill="hold">
                      <p:stCondLst>
                        <p:cond delay="indefinite"/>
                      </p:stCondLst>
                      <p:childTnLst>
                        <p:par>
                          <p:cTn id="1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2"/>
          <p:cNvSpPr/>
          <p:nvPr/>
        </p:nvSpPr>
        <p:spPr>
          <a:xfrm>
            <a:off x="0" y="-1754280"/>
            <a:ext cx="9144000" cy="385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Rectangle 4"/>
          <p:cNvSpPr/>
          <p:nvPr/>
        </p:nvSpPr>
        <p:spPr>
          <a:xfrm>
            <a:off x="6845400" y="468468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Rectangle 6"/>
          <p:cNvSpPr/>
          <p:nvPr/>
        </p:nvSpPr>
        <p:spPr>
          <a:xfrm>
            <a:off x="3759120" y="44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Rectangle 5"/>
          <p:cNvSpPr/>
          <p:nvPr/>
        </p:nvSpPr>
        <p:spPr>
          <a:xfrm>
            <a:off x="261000" y="375120"/>
            <a:ext cx="876996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inear functions of a random variable vs sums of identical vari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0" name=""/>
          <p:cNvGraphicFramePr/>
          <p:nvPr/>
        </p:nvGraphicFramePr>
        <p:xfrm>
          <a:off x="195120" y="795240"/>
          <a:ext cx="7128000" cy="1308240"/>
        </p:xfrm>
        <a:graphic>
          <a:graphicData uri="http://schemas.openxmlformats.org/drawingml/2006/table">
            <a:tbl>
              <a:tblPr/>
              <a:tblGrid>
                <a:gridCol w="1079640"/>
                <a:gridCol w="936720"/>
                <a:gridCol w="934920"/>
                <a:gridCol w="1008000"/>
                <a:gridCol w="1008000"/>
                <a:gridCol w="1081080"/>
                <a:gridCol w="1079640"/>
              </a:tblGrid>
              <a:tr h="393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X = x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031" name="Picture 13" descr=""/>
          <p:cNvPicPr/>
          <p:nvPr/>
        </p:nvPicPr>
        <p:blipFill>
          <a:blip r:embed="rId1"/>
          <a:stretch/>
        </p:blipFill>
        <p:spPr>
          <a:xfrm>
            <a:off x="87480" y="2513160"/>
            <a:ext cx="9986760" cy="2636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32" name="Object 1"/>
              <p:cNvSpPr txBox="1"/>
              <p:nvPr/>
            </p:nvSpPr>
            <p:spPr>
              <a:xfrm>
                <a:off x="1547640" y="1341360"/>
                <a:ext cx="28764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3" name="Object 2"/>
              <p:cNvSpPr txBox="1"/>
              <p:nvPr/>
            </p:nvSpPr>
            <p:spPr>
              <a:xfrm>
                <a:off x="2484360" y="1360440"/>
                <a:ext cx="2872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4" name="Object 3"/>
              <p:cNvSpPr txBox="1"/>
              <p:nvPr/>
            </p:nvSpPr>
            <p:spPr>
              <a:xfrm>
                <a:off x="3471840" y="1363680"/>
                <a:ext cx="2872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5" name="Object 4"/>
              <p:cNvSpPr txBox="1"/>
              <p:nvPr/>
            </p:nvSpPr>
            <p:spPr>
              <a:xfrm>
                <a:off x="4502160" y="1392120"/>
                <a:ext cx="2872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6" name="Object 5"/>
              <p:cNvSpPr txBox="1"/>
              <p:nvPr/>
            </p:nvSpPr>
            <p:spPr>
              <a:xfrm>
                <a:off x="5580000" y="1360440"/>
                <a:ext cx="2872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7" name="Object 11"/>
              <p:cNvSpPr txBox="1"/>
              <p:nvPr/>
            </p:nvSpPr>
            <p:spPr>
              <a:xfrm>
                <a:off x="6558120" y="1379520"/>
                <a:ext cx="2872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8" name="TextBox 19"/>
          <p:cNvSpPr/>
          <p:nvPr/>
        </p:nvSpPr>
        <p:spPr>
          <a:xfrm>
            <a:off x="1295280" y="2282760"/>
            <a:ext cx="93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9" name="Object 20"/>
              <p:cNvSpPr txBox="1"/>
              <p:nvPr/>
            </p:nvSpPr>
            <p:spPr>
              <a:xfrm>
                <a:off x="5079960" y="2103480"/>
                <a:ext cx="5666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0" name="Object 21"/>
              <p:cNvSpPr txBox="1"/>
              <p:nvPr/>
            </p:nvSpPr>
            <p:spPr>
              <a:xfrm>
                <a:off x="1028880" y="3284640"/>
                <a:ext cx="12222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1" name="Object 22"/>
              <p:cNvSpPr txBox="1"/>
              <p:nvPr/>
            </p:nvSpPr>
            <p:spPr>
              <a:xfrm>
                <a:off x="971640" y="3768840"/>
                <a:ext cx="109836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2" name="Object 24"/>
              <p:cNvSpPr txBox="1"/>
              <p:nvPr/>
            </p:nvSpPr>
            <p:spPr>
              <a:xfrm>
                <a:off x="1104840" y="4487760"/>
                <a:ext cx="7635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6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6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043" name="Rectangle 5"/>
          <p:cNvSpPr/>
          <p:nvPr/>
        </p:nvSpPr>
        <p:spPr>
          <a:xfrm>
            <a:off x="0" y="5348160"/>
            <a:ext cx="892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se two situations are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iffer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Rectangle 5"/>
          <p:cNvSpPr/>
          <p:nvPr/>
        </p:nvSpPr>
        <p:spPr>
          <a:xfrm>
            <a:off x="258840" y="5902920"/>
            <a:ext cx="892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Doubling the number on the top face (case 1)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Rectangle 5"/>
          <p:cNvSpPr/>
          <p:nvPr/>
        </p:nvSpPr>
        <p:spPr>
          <a:xfrm>
            <a:off x="243000" y="6394680"/>
            <a:ext cx="899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Tossing the die twice and adding the two results together (case 2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nodeType="clickEffect" fill="hold">
                      <p:stCondLst>
                        <p:cond delay="indefinite"/>
                      </p:stCondLst>
                      <p:childTnLst>
                        <p:par>
                          <p:cTn id="1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Rectangle 4"/>
          <p:cNvSpPr/>
          <p:nvPr/>
        </p:nvSpPr>
        <p:spPr>
          <a:xfrm>
            <a:off x="6838920" y="291132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Rectangle 6"/>
          <p:cNvSpPr/>
          <p:nvPr/>
        </p:nvSpPr>
        <p:spPr>
          <a:xfrm>
            <a:off x="375300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Rectangle 5"/>
          <p:cNvSpPr/>
          <p:nvPr/>
        </p:nvSpPr>
        <p:spPr>
          <a:xfrm>
            <a:off x="167400" y="114840"/>
            <a:ext cx="876996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inear functions of a random variable vs sums of identical vari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9" name="Picture 13" descr=""/>
          <p:cNvPicPr/>
          <p:nvPr/>
        </p:nvPicPr>
        <p:blipFill>
          <a:blip r:embed="rId1"/>
          <a:stretch/>
        </p:blipFill>
        <p:spPr>
          <a:xfrm>
            <a:off x="81000" y="738360"/>
            <a:ext cx="9986760" cy="2636640"/>
          </a:xfrm>
          <a:prstGeom prst="rect">
            <a:avLst/>
          </a:prstGeom>
          <a:ln w="0">
            <a:noFill/>
          </a:ln>
        </p:spPr>
      </p:pic>
      <p:sp>
        <p:nvSpPr>
          <p:cNvPr id="2050" name="TextBox 19"/>
          <p:cNvSpPr/>
          <p:nvPr/>
        </p:nvSpPr>
        <p:spPr>
          <a:xfrm>
            <a:off x="1289160" y="509760"/>
            <a:ext cx="93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1" name="Object 20"/>
              <p:cNvSpPr txBox="1"/>
              <p:nvPr/>
            </p:nvSpPr>
            <p:spPr>
              <a:xfrm>
                <a:off x="5079960" y="372960"/>
                <a:ext cx="56664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2" name="Object 21"/>
              <p:cNvSpPr txBox="1"/>
              <p:nvPr/>
            </p:nvSpPr>
            <p:spPr>
              <a:xfrm>
                <a:off x="1022400" y="1511280"/>
                <a:ext cx="12222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3" name="Object 22"/>
              <p:cNvSpPr txBox="1"/>
              <p:nvPr/>
            </p:nvSpPr>
            <p:spPr>
              <a:xfrm>
                <a:off x="965160" y="1995480"/>
                <a:ext cx="10987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4" name="Object 24"/>
              <p:cNvSpPr txBox="1"/>
              <p:nvPr/>
            </p:nvSpPr>
            <p:spPr>
              <a:xfrm>
                <a:off x="1098720" y="2714760"/>
                <a:ext cx="7635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6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6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055" name="Rectangle 5"/>
          <p:cNvSpPr/>
          <p:nvPr/>
        </p:nvSpPr>
        <p:spPr>
          <a:xfrm>
            <a:off x="3240" y="3411360"/>
            <a:ext cx="892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se two situations are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iffer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5"/>
          <p:cNvSpPr/>
          <p:nvPr/>
        </p:nvSpPr>
        <p:spPr>
          <a:xfrm>
            <a:off x="279360" y="3762360"/>
            <a:ext cx="892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Doubling the number on the top face (case 1)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5"/>
          <p:cNvSpPr/>
          <p:nvPr/>
        </p:nvSpPr>
        <p:spPr>
          <a:xfrm>
            <a:off x="263520" y="4254120"/>
            <a:ext cx="899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Tossing the die twice and adding the two results together (case 2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5"/>
          <p:cNvSpPr/>
          <p:nvPr/>
        </p:nvSpPr>
        <p:spPr>
          <a:xfrm>
            <a:off x="-52560" y="4702680"/>
            <a:ext cx="892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2.  a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alculate th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varianc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n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case 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5"/>
          <p:cNvSpPr/>
          <p:nvPr/>
        </p:nvSpPr>
        <p:spPr>
          <a:xfrm>
            <a:off x="4402080" y="4703400"/>
            <a:ext cx="892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)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alculate th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varianc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n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case 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Straight Connector 2"/>
          <p:cNvSpPr/>
          <p:nvPr/>
        </p:nvSpPr>
        <p:spPr>
          <a:xfrm>
            <a:off x="223920" y="4687920"/>
            <a:ext cx="8643960" cy="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traight Connector 21"/>
          <p:cNvSpPr/>
          <p:nvPr/>
        </p:nvSpPr>
        <p:spPr>
          <a:xfrm>
            <a:off x="4665600" y="4687920"/>
            <a:ext cx="0" cy="21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TextBox 6"/>
          <p:cNvSpPr/>
          <p:nvPr/>
        </p:nvSpPr>
        <p:spPr>
          <a:xfrm>
            <a:off x="336600" y="5094360"/>
            <a:ext cx="40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ff0000"/>
                </a:solidFill>
                <a:latin typeface="Comic Sans MS"/>
              </a:rPr>
              <a:t>The values of </a:t>
            </a:r>
            <a:r>
              <a:rPr b="1" i="1" lang="en-NZ" sz="16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NZ" sz="1600" spc="-1" strike="noStrike">
                <a:solidFill>
                  <a:srgbClr val="ff0000"/>
                </a:solidFill>
                <a:latin typeface="Comic Sans MS"/>
              </a:rPr>
              <a:t> are all doubl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TextBox 23"/>
          <p:cNvSpPr/>
          <p:nvPr/>
        </p:nvSpPr>
        <p:spPr>
          <a:xfrm>
            <a:off x="277920" y="5411880"/>
            <a:ext cx="409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So there is still just </a:t>
            </a:r>
            <a:r>
              <a:rPr b="1" lang="en-NZ" sz="1600" spc="-1" strike="noStrike" u="sng">
                <a:solidFill>
                  <a:srgbClr val="000000"/>
                </a:solidFill>
                <a:uFillTx/>
                <a:latin typeface="Comic Sans MS"/>
              </a:rPr>
              <a:t>one</a:t>
            </a: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 variable </a:t>
            </a:r>
            <a:r>
              <a:rPr b="1" i="1" lang="en-NZ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.  This is just a linear function of it.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TextBox 24"/>
          <p:cNvSpPr/>
          <p:nvPr/>
        </p:nvSpPr>
        <p:spPr>
          <a:xfrm>
            <a:off x="336600" y="5972040"/>
            <a:ext cx="13255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i.e. The distribution of 2</a:t>
            </a:r>
            <a:r>
              <a:rPr b="1" i="1" lang="en-NZ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TextBox 25"/>
          <p:cNvSpPr/>
          <p:nvPr/>
        </p:nvSpPr>
        <p:spPr>
          <a:xfrm>
            <a:off x="1714680" y="5972040"/>
            <a:ext cx="29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Hence Var</a:t>
            </a:r>
            <a:r>
              <a:rPr b="0" i="1" lang="en-NZ" sz="1600" spc="-1" strike="noStrike">
                <a:solidFill>
                  <a:srgbClr val="000000"/>
                </a:solidFill>
                <a:latin typeface="Comic Sans MS"/>
              </a:rPr>
              <a:t>(2X</a:t>
            </a: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)  =</a:t>
            </a:r>
            <a:r>
              <a:rPr b="0" i="1" lang="en-NZ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NZ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 Var(</a:t>
            </a:r>
            <a:r>
              <a:rPr b="0" i="1" lang="en-NZ" sz="1600" spc="-1" strike="noStrike">
                <a:solidFill>
                  <a:srgbClr val="000000"/>
                </a:solidFill>
                <a:latin typeface="Comic Sans MS"/>
              </a:rPr>
              <a:t>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TextBox 26"/>
          <p:cNvSpPr/>
          <p:nvPr/>
        </p:nvSpPr>
        <p:spPr>
          <a:xfrm>
            <a:off x="3139920" y="6227640"/>
            <a:ext cx="29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NZ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NZ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 (2.91667</a:t>
            </a: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TextBox 27"/>
          <p:cNvSpPr/>
          <p:nvPr/>
        </p:nvSpPr>
        <p:spPr>
          <a:xfrm>
            <a:off x="3139920" y="6481800"/>
            <a:ext cx="29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NZ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11.67 (4sf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Straight Connector 32"/>
          <p:cNvSpPr/>
          <p:nvPr/>
        </p:nvSpPr>
        <p:spPr>
          <a:xfrm>
            <a:off x="303120" y="4651200"/>
            <a:ext cx="0" cy="216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TextBox 33"/>
          <p:cNvSpPr/>
          <p:nvPr/>
        </p:nvSpPr>
        <p:spPr>
          <a:xfrm>
            <a:off x="4670280" y="5133960"/>
            <a:ext cx="453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ff"/>
                </a:solidFill>
                <a:latin typeface="Comic Sans MS"/>
              </a:rPr>
              <a:t>Here there are </a:t>
            </a:r>
            <a:r>
              <a:rPr b="1" lang="en-NZ" sz="1600" spc="-1" strike="noStrike" u="sng">
                <a:solidFill>
                  <a:srgbClr val="0000ff"/>
                </a:solidFill>
                <a:uFillTx/>
                <a:latin typeface="Comic Sans MS"/>
              </a:rPr>
              <a:t>two independent variabl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TextBox 34"/>
          <p:cNvSpPr/>
          <p:nvPr/>
        </p:nvSpPr>
        <p:spPr>
          <a:xfrm>
            <a:off x="4745160" y="5481720"/>
            <a:ext cx="439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1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: Result of 1</a:t>
            </a:r>
            <a:r>
              <a:rPr b="1" lang="en-NZ" sz="16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 toss;  </a:t>
            </a:r>
            <a:r>
              <a:rPr b="1" i="1" lang="en-NZ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: Result of 2</a:t>
            </a:r>
            <a:r>
              <a:rPr b="1" lang="en-NZ" sz="16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TextBox 35"/>
          <p:cNvSpPr/>
          <p:nvPr/>
        </p:nvSpPr>
        <p:spPr>
          <a:xfrm>
            <a:off x="4761000" y="5810400"/>
            <a:ext cx="1420560" cy="85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i.e. The distribution of </a:t>
            </a:r>
            <a:r>
              <a:rPr b="1" i="1" lang="en-NZ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1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1" i="1" lang="en-NZ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TextBox 36"/>
          <p:cNvSpPr/>
          <p:nvPr/>
        </p:nvSpPr>
        <p:spPr>
          <a:xfrm>
            <a:off x="6094440" y="5888160"/>
            <a:ext cx="3114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Var</a:t>
            </a:r>
            <a:r>
              <a:rPr b="0" i="1" lang="en-NZ" sz="1600" spc="-1" strike="noStrike">
                <a:solidFill>
                  <a:srgbClr val="000000"/>
                </a:solidFill>
                <a:latin typeface="Comic Sans MS"/>
              </a:rPr>
              <a:t>(X</a:t>
            </a:r>
            <a:r>
              <a:rPr b="0" lang="en-NZ" sz="1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i="1" lang="en-NZ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)  =</a:t>
            </a:r>
            <a:r>
              <a:rPr b="0" i="1" lang="en-NZ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0" i="1" lang="en-NZ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1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)+Var(</a:t>
            </a:r>
            <a:r>
              <a:rPr b="0" i="1" lang="en-NZ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1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TextBox 37"/>
          <p:cNvSpPr/>
          <p:nvPr/>
        </p:nvSpPr>
        <p:spPr>
          <a:xfrm>
            <a:off x="7213680" y="6173640"/>
            <a:ext cx="29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NZ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2.91667+ 2.9166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TextBox 38"/>
          <p:cNvSpPr/>
          <p:nvPr/>
        </p:nvSpPr>
        <p:spPr>
          <a:xfrm>
            <a:off x="7197840" y="6491160"/>
            <a:ext cx="294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NZ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5.833 (4sf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8" dur="indefinite" restart="never" nodeType="tmRoot">
          <p:childTnLst>
            <p:seq>
              <p:cTn id="1429" dur="indefinite" nodeType="mainSeq">
                <p:childTnLst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nodeType="clickEffect" fill="hold">
                      <p:stCondLst>
                        <p:cond delay="indefinite"/>
                      </p:stCondLst>
                      <p:childTnLst>
                        <p:par>
                          <p:cTn id="1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nodeType="clickEffect" fill="hold">
                      <p:stCondLst>
                        <p:cond delay="indefinite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nodeType="clickEffect" fill="hold">
                      <p:stCondLst>
                        <p:cond delay="indefinite"/>
                      </p:stCondLst>
                      <p:childTnLst>
                        <p:par>
                          <p:cTn id="1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nodeType="clickEffect" fill="hold">
                      <p:stCondLst>
                        <p:cond delay="indefinite"/>
                      </p:stCondLst>
                      <p:childTnLst>
                        <p:par>
                          <p:cTn id="1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4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easur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values can it take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Whole numbers or rounded value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Rectangle 2"/>
          <p:cNvSpPr/>
          <p:nvPr/>
        </p:nvSpPr>
        <p:spPr>
          <a:xfrm>
            <a:off x="0" y="0"/>
            <a:ext cx="9144000" cy="385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Rectangle 5"/>
          <p:cNvSpPr/>
          <p:nvPr/>
        </p:nvSpPr>
        <p:spPr>
          <a:xfrm>
            <a:off x="464040" y="1919520"/>
            <a:ext cx="789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What is the difference between the following two question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Rectangle 6"/>
          <p:cNvSpPr/>
          <p:nvPr/>
        </p:nvSpPr>
        <p:spPr>
          <a:xfrm>
            <a:off x="3759120" y="616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Rectangle 5"/>
          <p:cNvSpPr/>
          <p:nvPr/>
        </p:nvSpPr>
        <p:spPr>
          <a:xfrm>
            <a:off x="0" y="790200"/>
            <a:ext cx="8929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XAMPLE 2:  The mean weight of chicken thighs is 200g with a standard deviation of 10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hicken thighs are sold for 3c per gra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TextBox 9"/>
          <p:cNvSpPr/>
          <p:nvPr/>
        </p:nvSpPr>
        <p:spPr>
          <a:xfrm>
            <a:off x="42840" y="2354400"/>
            <a:ext cx="4572000" cy="4483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Rectangle 7"/>
          <p:cNvSpPr/>
          <p:nvPr/>
        </p:nvSpPr>
        <p:spPr>
          <a:xfrm>
            <a:off x="0" y="2378160"/>
            <a:ext cx="457200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Arial"/>
              </a:rPr>
              <a:t>Question A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Arial"/>
              </a:rPr>
              <a:t>Calculate the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  <a:ea typeface="Arial"/>
              </a:rPr>
              <a:t>mean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Arial"/>
              </a:rPr>
              <a:t>and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  <a:ea typeface="Arial"/>
              </a:rPr>
              <a:t>standard deviation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Arial"/>
              </a:rPr>
              <a:t>of the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  <a:ea typeface="Arial"/>
              </a:rPr>
              <a:t>price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Arial"/>
              </a:rPr>
              <a:t> of one chicken thigh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TextBox 10"/>
          <p:cNvSpPr/>
          <p:nvPr/>
        </p:nvSpPr>
        <p:spPr>
          <a:xfrm>
            <a:off x="4572000" y="2333520"/>
            <a:ext cx="4572000" cy="4483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Rectangle 8"/>
          <p:cNvSpPr/>
          <p:nvPr/>
        </p:nvSpPr>
        <p:spPr>
          <a:xfrm>
            <a:off x="4592520" y="2360520"/>
            <a:ext cx="4659480" cy="12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Arial"/>
              </a:rPr>
              <a:t>Question B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Arial"/>
              </a:rPr>
              <a:t>Calculate the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  <a:ea typeface="Arial"/>
              </a:rPr>
              <a:t>mean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Arial"/>
              </a:rPr>
              <a:t>and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  <a:ea typeface="Arial"/>
              </a:rPr>
              <a:t>standard deviation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Arial"/>
              </a:rPr>
              <a:t>of the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  <a:ea typeface="Arial"/>
              </a:rPr>
              <a:t>total weight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Arial"/>
              </a:rPr>
              <a:t>of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  <a:ea typeface="Arial"/>
              </a:rPr>
              <a:t>3 chicken thighs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Rectangle 5"/>
          <p:cNvSpPr/>
          <p:nvPr/>
        </p:nvSpPr>
        <p:spPr>
          <a:xfrm>
            <a:off x="229320" y="205200"/>
            <a:ext cx="876996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Linear functions of a random variable vs sums of identical vari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TextBox 12"/>
          <p:cNvSpPr/>
          <p:nvPr/>
        </p:nvSpPr>
        <p:spPr>
          <a:xfrm>
            <a:off x="790560" y="795240"/>
            <a:ext cx="771516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Copy this example then do NuLake pg. 169 &amp; 170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Q188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194.  NOTE: Stop after Q194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8" dur="indefinite" restart="never" nodeType="tmRoot">
          <p:childTnLst>
            <p:seq>
              <p:cTn id="1479" dur="indefinite" nodeType="mainSeq">
                <p:childTnLst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nodeType="clickEffect" fill="hold">
                      <p:stCondLst>
                        <p:cond delay="indefinite"/>
                      </p:stCondLst>
                      <p:childTnLst>
                        <p:par>
                          <p:cTn id="1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nodeType="clickEffect" fill="hold">
                      <p:stCondLst>
                        <p:cond delay="indefinite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2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2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2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2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Times New Roman"/>
              </a:rPr>
              <a:t>LESSON 8 – Revision of Achievement Std 90643 - Prob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 txBox="1"/>
          <p:nvPr/>
        </p:nvSpPr>
        <p:spPr>
          <a:xfrm>
            <a:off x="428400" y="1980720"/>
            <a:ext cx="871524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oint of tod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Work through Merit &amp; Excellence level problems from all parts of the probability topic – continue in preparation for test (next lesson).  Sort out any areas of weakn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Work through NuLake practice assessment for Probability (pg. 172-17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Continue for HW as study for t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Past NCEA papers (AS90643): 2006, 200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Times New Roman"/>
              </a:rPr>
              <a:t>FORMATIVE ASSESS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Times New Roman"/>
              </a:rPr>
              <a:t>(Achievement Std 90643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04:17:49Z</dcterms:created>
  <dc:creator>Jeremy Brocklehurst</dc:creator>
  <dc:description/>
  <dc:language>en-US</dc:language>
  <cp:lastModifiedBy>Jeremy Brocklehurst</cp:lastModifiedBy>
  <dcterms:modified xsi:type="dcterms:W3CDTF">2011-06-13T22:23:17Z</dcterms:modified>
  <cp:revision>926</cp:revision>
  <dc:subject>Year 13 Statistics &amp; Modelling</dc:subject>
  <dc:title>Sample statistics &amp; expectation</dc:title>
</cp:coreProperties>
</file>